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94B8-0250-4A61-9551-D9711AC50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F865-8436-458A-87F8-E84E9565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13DB03-1CB6-4E1F-8EDE-FB2139F7E2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33F32F-EAEB-4877-98AD-010E57170D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B9BFC9-FE9B-4492-8346-732FC7B349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E741B-AD29-40DA-8788-B9DDB8D4D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F308F-AD9E-4843-9423-7CF0CB28C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78BA90-4E6C-4E04-9EB7-9B3172A18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08EAC-3DD3-44A5-9386-2FDAC98F7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E3B8F3-EF77-470E-B66A-9286CFE356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B988EF-C13E-4E03-AB89-0AE8927802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A6D868-3453-4B05-9344-2C9365410E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1410B-4E45-4FA1-B530-806B05B8E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F3BB86-FECB-4AC9-AE09-01837CBED4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195312-586C-4DD8-A0E5-4D4E776B7A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6BFC1A-E731-4A16-B3FF-E61255042C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F06E1F-E4C1-49E4-8DD4-3DE96282CD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6DB346-CE7F-4374-8DEA-A4EAA15383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94C585-E638-47E5-AF46-41F3BFFC06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621DCF-5623-4DC1-A4D4-B64919EE0E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463A8-1183-48F4-8E77-E27A062320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7661E4-592A-4664-AE89-658D24DF2A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4DDFF4-58D9-4A29-AD64-B362CB72C4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490D4-AB6F-4613-BB2E-93C487AD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4D6C81-BF68-43F0-BFC5-1433134E82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B0E9E4-75C8-49C8-A1E3-EAC743B4B5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A77817-FBA6-4DFE-A9FF-E1792D6533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83C7A6-783F-4606-A291-63DB90461A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D14C92-82DC-4FE1-9031-8D2EDDBB44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4667E-7233-42D7-9FB0-A026B2440F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528140-CEF9-4F9D-AC6A-A5055EF15F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05E54C-9DF2-4F60-87C7-76078C6F7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AACC5-AEBE-4CD7-8461-236BC6BD1F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59C21F-29F5-42FA-B609-66DC813599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6B610-5189-4BEA-90B8-B5CB60E9D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7EB5FA-950D-4503-B880-C47A30C28F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25826B-E0F1-4E22-B3C6-8E58728CB0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C15850-A34F-44D8-A842-3CBEAB3914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CD3D82-9E76-4397-9204-0A77CC6613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B1F70B-6DCA-4AA0-9965-0B372741B7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8F6F31-EE44-4A88-9B48-68E6B2CB2B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C62A28-AE6B-4B86-8680-691286DD01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C75558-F321-48FB-A2B3-61CF2EE534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4C4528-AD04-4082-95AB-FAB3EF236A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E934D2-0675-4C2D-90B6-B01BA8D525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DEB7-D70A-4BB8-8CB4-9316A0C9C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7F265C-DD87-44B6-A72D-C337375740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67D0A0-9D8D-4D67-9CF6-6FB1EB45D1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A6DAA5-AFEE-4EE6-8303-A4C206F9A8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7F347A-F256-4FD1-9624-CFE502850F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E0F826-87BB-4CBD-84FF-7AE1141550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DDFE8-0B3C-48BA-B4D4-3E0965989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3D20-A6F4-4A07-AC98-95510C40D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51C50-C7A6-4108-8F53-0B7A3B165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20BF6-81F3-457C-AFEB-B6FB6C8C1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DAC77-7592-4C76-A346-B6F288460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173DA-1535-4A25-9542-C6479E507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2116D-8276-4C03-9AC1-A6F9EB04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B2DB-2237-46DB-8933-5C98AFC86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875B-F39C-4F04-8953-E470DEA0C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7E41C-B729-4771-B1B8-8E4877E76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74A25-6CD5-4BCE-B2A3-3C6094459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2AC7A-3A18-41CF-A5BB-E7A36AC80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71BB6-8A1A-4D13-A424-5C2EC2DD51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387CE-B067-4DBD-B970-35FD955CD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4B2AC-E699-4FC6-B6D4-76F5368A1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A9B67-3038-4A56-996F-661CEE481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6536-1C8D-4EC9-A446-DED82C2B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B75AA-8726-43F1-90F0-CD6A32C31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3CC70-27D9-46E2-9EB6-389ED86AD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AD9A0-27CE-46E3-9969-3D5AEC048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1C56D-7250-454B-B5B8-0D5DFECCB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7BA97-B75A-4B21-AA16-E3C670ACF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345DD-25F7-482D-AD5C-82120B3F5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1F7F2-E7D8-47BA-9679-D2877D7A0B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0D70B-0106-4B51-B97D-B56A07A54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60667-8A93-4FC0-B397-9D39FDA67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4B04C-B950-4585-AB10-45CD682A8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A4DA-BB7F-41F4-9B46-C67D605C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48878-340C-4397-B234-5A35B896B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29EFD-1686-4C4C-9757-2770722DD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EA2E2-E67B-4788-9473-6A48E84E06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D9A4D-3134-4B7C-9B91-1649C9EEE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157E9-B38B-4B37-BAC4-332DD8ED6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6624C-1C3F-48AB-B416-AB13C9FD5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34DA44-3C08-415D-940D-94A745863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029C89-3CEC-4FE0-AD01-ACC6D02EA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06DE2-6482-4CCB-867C-8C706C49B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E74D50-0496-4409-8D5A-7458EE940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2D6C-1123-4C63-962D-87FB540E6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FF730-B674-4A1E-A188-6E9525B32E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26969-90F4-4A8E-A4C4-15FB18B4D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5B386-53D9-4883-9673-8E18EDABB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7B377-BCA6-4616-A0A2-E378AA253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36883-F0C0-4647-BF3A-B996C2E18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B3648-EB6F-4ECD-BE79-A0DF2D428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2A8A7-903B-4F01-9539-AC5D98872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67286-8C74-458C-AA8A-7F95B42F1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5A73E-4F85-4A69-ACAF-1DC015C9E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BB33D-72C1-4B9C-979C-3F774DB7E8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ADD75-F996-47E6-8866-DCB4DF6A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0BD4A-7977-4DA5-BBFA-14CBE1DA9A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A792AA-D2A0-4422-8DCC-F10E542A9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A5466-9B24-4079-9499-E5CFD6B72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E2282-89B6-462E-B92C-15B7F7B9D3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F8069-653D-40D1-AC03-FDD658649F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1BA03E-16C6-43A7-B33E-CD3F286FA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C1AA18-AF63-4266-8623-F3F7E22DD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D65F0-94C7-42DD-B909-055EE9571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CABF2-4758-42D6-AD47-7E16A13D3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FE462-28DD-48C4-9368-9BD42D965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A226-3156-4441-8C95-82BCDC96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550A8-2A79-4F8F-8800-C9DE2A69C8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75C0BE-3F81-479B-8D6E-267CC721E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D00417-EC39-4E99-8183-107E4C6347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DC79F1-CD78-4C3B-9920-70067985FC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CB9E27-8857-456F-933E-EA4621C11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44D94-D9BC-4F9B-812F-D9CB7DA55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3BEB2-15EB-4AFF-A52B-B736944D9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2EF2A-F431-4038-9EC0-11EA11E11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F3F81-06CC-4E67-9B5B-02A68A7A2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8546B-5871-4A2E-8B19-C9DC9D1CB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EEAC2-24CF-4DBE-AEBF-6E8823E50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583E6-6809-4F13-82D4-FA2E0A5F7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30C99-D72E-419B-8F81-1C4E723F4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3CBDA-1584-4AC9-A481-D3C6B81F1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D626E-A644-492F-BC82-B242D9AF82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CB1046-BCF6-45BB-A118-1100FCD916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93A7D2-4AF2-47B0-96B2-35F66F38E7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5C3BC-6211-408E-9155-749EB8987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9B701-91FD-4412-8B5A-A29F73654C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1D4BE-8BDB-4AD4-BF0D-25054CBF63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5487A5-25F6-485C-AF68-E67430FBD5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5E0F-DF66-4AFC-95EC-A3FF77ED8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4C017-60B5-46F7-AFBA-EBE1E1148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BF4BA-DA1C-4CCC-A6A5-D183B34C3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2821A-9742-481C-8F32-53AA6D8E0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00E51-C0F0-4BF2-8E1F-6C1A1BA72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4628B6-9CFE-45C2-A08B-6A21BC183B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DB17B3-20A2-430C-BBFE-251B47808D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DED9B-EA41-4A75-9A05-9E8AB5B98E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1BAB92-619F-42E7-8B36-29BAF58ACE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653DA0-714A-45C0-AF9C-E48234D0CA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C2F75-D645-4B1C-B84B-38349784A7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561d00"/>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AEF0-73EA-4CD3-ADE1-45AD6B46D3F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8516-1CDE-40CC-95AF-D156C32E7D5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0"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2"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B2B1-9796-4E74-B2F6-4F434AC46F1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1043-8829-4D92-8224-2D32F0D8DD1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993300"/>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bb5f03"/>
                </a:gs>
                <a:gs pos="100000">
                  <a:srgbClr val="572c0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561d00"/>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993300"/>
                </a:gs>
                <a:gs pos="5000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4054-C773-4573-B5F7-96AFA25ECDA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9373-1E3E-4FAD-B5BD-F167AA0FE1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9761-0D8D-4641-8093-8CDB912C7E5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2558-3DDD-4864-8161-B25F8F211AD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5"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F05F-62B1-41DE-8D38-0C2AFAAB971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2DEE-E5A9-4FF9-B879-623D5A9A1B0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168C-EB39-49F2-9B78-BE963728DF1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8"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0"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E71E-4C9F-4CE0-B8D3-4FB6A25EE20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ar.wikipedia.org/" TargetMode="External"/><Relationship Id="rId2" Type="http://schemas.openxmlformats.org/officeDocument/2006/relationships/hyperlink" Target="http://www.2algeria.com/"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47280" y="836280"/>
            <a:ext cx="777708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حرب العالميّة الأولى</a:t>
            </a:r>
            <a:endParaRPr b="1" lang="en-US" sz="3200" spc="-1" strike="noStrike">
              <a:solidFill>
                <a:srgbClr val="feec94"/>
              </a:solidFill>
              <a:latin typeface="Times New Roman"/>
            </a:endParaRPr>
          </a:p>
        </p:txBody>
      </p:sp>
      <p:sp>
        <p:nvSpPr>
          <p:cNvPr id="531" name="PlaceHolder 2"/>
          <p:cNvSpPr>
            <a:spLocks noGrp="1"/>
          </p:cNvSpPr>
          <p:nvPr>
            <p:ph type="subTitle"/>
          </p:nvPr>
        </p:nvSpPr>
        <p:spPr>
          <a:xfrm>
            <a:off x="610920" y="1952280"/>
            <a:ext cx="7885080" cy="475308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Akhbar MT"/>
              </a:rPr>
              <a:t>لم تقم الحرب العالميّة قي العالم محض صدفة, وإنما كانت وليدة أسباب بارزة وعريضة ومؤثرة إلى حدّ كبير , ومن أهم هذه السباب:</a:t>
            </a:r>
            <a:endParaRPr b="0" lang="en-US" sz="2800" spc="-1" strike="noStrike">
              <a:solidFill>
                <a:srgbClr val="ffffff"/>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1</a:t>
            </a:r>
            <a:r>
              <a:rPr b="0" lang="ar-SA" sz="2800" spc="-1" strike="noStrike">
                <a:solidFill>
                  <a:srgbClr val="000000"/>
                </a:solidFill>
                <a:latin typeface="Times New Roman"/>
                <a:ea typeface="Akhbar MT"/>
              </a:rPr>
              <a:t>- حركة التّنافس الدّولي الاستعماريّة:</a:t>
            </a:r>
            <a:endParaRPr b="0" lang="en-US" sz="28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eec94"/>
                </a:solidFill>
                <a:latin typeface="Times New Roman"/>
                <a:ea typeface="Akhbar MT"/>
              </a:rPr>
              <a:t>     </a:t>
            </a:r>
            <a:r>
              <a:rPr b="0" lang="ar-SA" sz="2400" spc="-1" strike="noStrike">
                <a:solidFill>
                  <a:srgbClr val="ffff00"/>
                </a:solidFill>
                <a:latin typeface="Times New Roman"/>
                <a:cs typeface="Akhbar MT"/>
              </a:rPr>
              <a:t>نشطت هذه الحركة الدولية التنافسيّة بعد قيام عصر الكشوف الجغرافية الأوروبيّة وما نجم عنه من توسّع في المواد الخام والملاحة البحريّة والتّجارة الدّوليّة, كلّ ذلك ساهم في قيام حركة الثّورة الصّناعيّة في الرّبع الأخير من القرن الثّامن عشر الميلادي , وبالتحديد منذ عام </a:t>
            </a:r>
            <a:r>
              <a:rPr b="0" lang="ar-SA" sz="2400" spc="-1" strike="noStrike">
                <a:solidFill>
                  <a:srgbClr val="ff0000"/>
                </a:solidFill>
                <a:latin typeface="Times New Roman"/>
                <a:ea typeface="Akhbar MT"/>
              </a:rPr>
              <a:t>1770</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ذلك في إنجلترا كبلد أوّل للصّناعة في العالم.</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وسّع نشاط الدّول الصّناعيّة وتطوّر في القرن التّاسع عشر الميلادي للأسباب التّالية:</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  التنافس بين الشّركات الصّناعيّة الأوروبيّة الكبرى.</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 جهود أصحاب رؤؤس الأموال في البلاد الأوروبيّة ذات الأنظمة الاقتصاديّة الحرّة.</a:t>
            </a:r>
            <a:endParaRPr b="0" lang="en-US" sz="2400" spc="-1" strike="noStrike">
              <a:solidFill>
                <a:srgbClr val="ffffff"/>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كسر العزلة الأمريكيّة</a:t>
            </a:r>
            <a:endParaRPr b="1" lang="en-US" sz="3200" spc="-1" strike="noStrike">
              <a:solidFill>
                <a:srgbClr val="feec94"/>
              </a:solidFill>
              <a:latin typeface="Times New Roman"/>
            </a:endParaRPr>
          </a:p>
        </p:txBody>
      </p:sp>
      <p:sp>
        <p:nvSpPr>
          <p:cNvPr id="543" name=""/>
          <p:cNvSpPr txBox="1"/>
          <p:nvPr/>
        </p:nvSpPr>
        <p:spPr>
          <a:xfrm>
            <a:off x="482760" y="1456920"/>
            <a:ext cx="8229600" cy="5111640"/>
          </a:xfrm>
          <a:prstGeom prst="rect">
            <a:avLst/>
          </a:prstGeom>
          <a:noFill/>
          <a:ln w="0">
            <a:noFill/>
          </a:ln>
        </p:spPr>
        <p:txBody>
          <a:bodyPr anchor="t">
            <a:normAutofit fontScale="75000"/>
          </a:bodyPr>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في أواخر عهد الرّئيس وليم ماكينلي بدأت الولايات المتّحدة الأمريكيّة تحاول كسر عزلتها بشكل تدريجي بخاصّة بعد أن انتهت من مرحلة البناء الدّاخلي ومرحلة الامتداد باتّجاه الغرب ومرحلة مدّ النّفوذ في الكاريبي و أمريكا الجنوبيّة و الوسطى.</a:t>
            </a: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فكان على الولايات المتّحدّة الأمريكيّة أن تخطو خطوة أخرى باتّجاه الانفتاح على العالم القديم بشكل تدريجي وبشكل لا يزعج الأمريكيين المتمسّكين بمبدأ العزلة داخل القارّة الأمريكيّة.</a:t>
            </a: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من خلال هذا المفهوم في تطوير الدّبلوماسيّة  الأمريكيّة, بدأت التّدخّلات الأمريكيّة كما يلي:</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قرّر وزير الخارجيّة الأمريكيّة </a:t>
            </a:r>
            <a:r>
              <a:rPr b="0" lang="ar-SA" sz="2400" spc="-1" strike="noStrike">
                <a:solidFill>
                  <a:srgbClr val="ff0000"/>
                </a:solidFill>
                <a:latin typeface="Times New Roman"/>
                <a:cs typeface="Akhbar MT"/>
              </a:rPr>
              <a:t>جون هاي </a:t>
            </a:r>
            <a:r>
              <a:rPr b="0" lang="en-US" sz="2400" spc="-1" strike="noStrike">
                <a:solidFill>
                  <a:srgbClr val="ff0000"/>
                </a:solidFill>
                <a:latin typeface="Times New Roman"/>
                <a:ea typeface="Akhbar MT"/>
              </a:rPr>
              <a:t>John Hay</a:t>
            </a:r>
            <a:r>
              <a:rPr b="0" lang="ar-SA" sz="2400" spc="-1" strike="noStrike">
                <a:solidFill>
                  <a:srgbClr val="ffff00"/>
                </a:solidFill>
                <a:latin typeface="Times New Roman"/>
                <a:ea typeface="Akhbar MT"/>
              </a:rPr>
              <a:t> التّدخّل في مناطق الشّرق الأقصى حين أعلنت الحكومة الأمريكيّة بأنّ على الدّول الأوروبيّة وغيرها ممن لها نفوذ استعماري في الصّين أن لا تفرض أيّ ضرائب جديدة على الصّينييّن, وقد جاء هذا الطّلب الأمريكي في سياق سياسة جديدة للولايات المتّحدة الأمريكيّة في مبدأ دبلوماسي جديد هو </a:t>
            </a:r>
            <a:r>
              <a:rPr b="0" lang="ar-SA" sz="2400" spc="-1" strike="noStrike">
                <a:solidFill>
                  <a:srgbClr val="ff0000"/>
                </a:solidFill>
                <a:latin typeface="Times New Roman"/>
                <a:cs typeface="Akhbar MT"/>
              </a:rPr>
              <a:t>دبلوماسيّة الباب المفتوح </a:t>
            </a:r>
            <a:r>
              <a:rPr b="0" lang="en-US" sz="2400" spc="-1" strike="noStrike">
                <a:solidFill>
                  <a:srgbClr val="ff0000"/>
                </a:solidFill>
                <a:latin typeface="Times New Roman"/>
                <a:ea typeface="Akhbar MT"/>
              </a:rPr>
              <a:t>Open Door</a:t>
            </a:r>
            <a:r>
              <a:rPr b="0" lang="ar-SA" sz="2400" spc="-1" strike="noStrike">
                <a:solidFill>
                  <a:srgbClr val="ff0000"/>
                </a:solidFill>
                <a:latin typeface="Times New Roman"/>
                <a:ea typeface="Akhbar MT"/>
              </a:rPr>
              <a:t> </a:t>
            </a:r>
            <a:r>
              <a:rPr b="0" lang="ar-SA" sz="2400" spc="-1" strike="noStrike">
                <a:solidFill>
                  <a:srgbClr val="ffff00"/>
                </a:solidFill>
                <a:latin typeface="Times New Roman"/>
                <a:cs typeface="Akhbar MT"/>
              </a:rPr>
              <a:t>في الصّين عام </a:t>
            </a:r>
            <a:r>
              <a:rPr b="0" lang="ar-SA" sz="2400" spc="-1" strike="noStrike">
                <a:solidFill>
                  <a:srgbClr val="ff0000"/>
                </a:solidFill>
                <a:latin typeface="Times New Roman"/>
                <a:ea typeface="Akhbar MT"/>
              </a:rPr>
              <a:t>1899</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تدخّلت الولايات المتّحدة الأمريكيّة بشكل وسيط في الصّراع الدّائر بين روسيا القيصريّة وبين اليابان عام </a:t>
            </a:r>
            <a:r>
              <a:rPr b="0" lang="ar-SA" sz="2400" spc="-1" strike="noStrike">
                <a:solidFill>
                  <a:srgbClr val="ff0000"/>
                </a:solidFill>
                <a:latin typeface="Times New Roman"/>
                <a:ea typeface="Akhbar MT"/>
              </a:rPr>
              <a:t>1905</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في عهد الرئيس الأمريكي ثيودور روزفلت الذي كان من جراء عقد صلح بين الدّولتين المتحاربتين على أرض الولايات المتّحدة الأمريكيّة وتحت رعايته.</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46040" y="580680"/>
            <a:ext cx="8229600" cy="4856040"/>
          </a:xfrm>
          <a:prstGeom prst="rect">
            <a:avLst/>
          </a:prstGeom>
          <a:noFill/>
          <a:ln w="0">
            <a:noFill/>
          </a:ln>
        </p:spPr>
        <p:txBody>
          <a:bodyPr anchor="t">
            <a:normAutofit fontScale="89000"/>
          </a:bodyPr>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طور مبدأ عزلة الولايات المتّحدة الأمريكيّة حين تدخّلت الولايات المتّحدة الأمريكيّة في عهد رئيسها ثيودور روزفلت في المؤتمرات التي تناولت شئون السّاحل الإفريقي المطلّ على البحر المتوسط و المحيط الأطلسي. وبواسطة الرّئيس روزفلت عقد مؤتمر الجزيرة الخضراء في جنوب إسبانيا عام </a:t>
            </a:r>
            <a:r>
              <a:rPr b="0" lang="ar-SA" sz="2400" spc="-1" strike="noStrike">
                <a:solidFill>
                  <a:srgbClr val="ff0000"/>
                </a:solidFill>
                <a:latin typeface="Times New Roman"/>
                <a:ea typeface="Akhbar MT"/>
              </a:rPr>
              <a:t>190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لدراسة المسألة المغربيّة بعد أن توتّرت العلاقة بين ألمانيا و فرنسا التي تدعمها كلّ من بريطانيا و إسبانيا و إيطاليا بعد الاتّفاق فيما بينهم على اقتسام مناطق الشّمال الإفريقي التي لم تدخل بعد تحت الاستعمار الأوروبي.</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قد توسع مفهوم كسر العزلة الأمريكيّة في عهد الرّئيس الأمريكـي </a:t>
            </a:r>
            <a:r>
              <a:rPr b="0" lang="ar-SA" sz="2400" spc="-1" strike="noStrike">
                <a:solidFill>
                  <a:srgbClr val="ff0000"/>
                </a:solidFill>
                <a:latin typeface="Times New Roman"/>
                <a:cs typeface="Akhbar MT"/>
              </a:rPr>
              <a:t>وودرو ولسون </a:t>
            </a:r>
            <a:r>
              <a:rPr b="0" lang="en-US" sz="1600" spc="-1" strike="noStrike">
                <a:solidFill>
                  <a:srgbClr val="ff0000"/>
                </a:solidFill>
                <a:latin typeface="Times New Roman"/>
                <a:ea typeface="Akhbar MT"/>
              </a:rPr>
              <a:t>Woodrow Wilson</a:t>
            </a:r>
            <a:r>
              <a:rPr b="0" lang="ar-SA" sz="1600" spc="-1" strike="noStrike">
                <a:solidFill>
                  <a:srgbClr val="ff0000"/>
                </a:solidFill>
                <a:latin typeface="Times New Roman"/>
                <a:ea typeface="Akhbar MT"/>
              </a:rPr>
              <a:t> </a:t>
            </a:r>
            <a:r>
              <a:rPr b="0" lang="ar-SA" sz="2400" spc="-1" strike="noStrike">
                <a:solidFill>
                  <a:srgbClr val="ffff00"/>
                </a:solidFill>
                <a:latin typeface="Times New Roman"/>
                <a:cs typeface="Akhbar MT"/>
              </a:rPr>
              <a:t>الذي تولى رئآسة الولايات المتّحدة الأمريكيّة عام </a:t>
            </a:r>
            <a:r>
              <a:rPr b="0" lang="ar-SA" sz="2400" spc="-1" strike="noStrike">
                <a:solidFill>
                  <a:srgbClr val="ff0000"/>
                </a:solidFill>
                <a:latin typeface="Times New Roman"/>
                <a:ea typeface="Akhbar MT"/>
              </a:rPr>
              <a:t>1913</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ظلّ في الرّئاسة فترتين متتاليتين, وفي عهده انكسر مبدأ العزلة الأمريكيّة عندما دخلت الولايات المتّحدة الأمريكيّة الحرب العالميّة الأولى إلى جانب دول الوفاق ضدّ دول الوسط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أسباب دخول الولايات المتّحدة الأمريكيّة الحرب العالميّة الأولى</a:t>
            </a:r>
            <a:endParaRPr b="1" lang="en-US" sz="3200" spc="-1" strike="noStrike">
              <a:solidFill>
                <a:srgbClr val="feec94"/>
              </a:solidFill>
              <a:latin typeface="Times New Roman"/>
            </a:endParaRPr>
          </a:p>
        </p:txBody>
      </p:sp>
      <p:sp>
        <p:nvSpPr>
          <p:cNvPr id="546"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كانت هناك مشاعر قويّة لدى الأمريكييّن نحو بريطانيا وبالتّالي دول الوفاق. كما أنّ حكومتهم كان لها موقف معاد للتّوسّع الألماني بخاصّة في مناطق المحيط الباسيفيكي و في الصّين ومناطق البحر الكاريبي وكان الأمريكيون يكرهون روح الغطرسة و الهيمنة الألمانيّة في أوروبا وخارجها بعد قيام الاتّحاد الألماني عام </a:t>
            </a:r>
            <a:r>
              <a:rPr b="0" lang="ar-SA" sz="2400" spc="-1" strike="noStrike">
                <a:solidFill>
                  <a:srgbClr val="ff0000"/>
                </a:solidFill>
                <a:latin typeface="Times New Roman"/>
                <a:ea typeface="Akhbar MT"/>
              </a:rPr>
              <a:t>187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98440" indent="-2984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بناءً على هذا الشّعور فإنّ الحياد الأمريكي استمرّ منذ بداية الحرب عام </a:t>
            </a:r>
            <a:r>
              <a:rPr b="0" lang="ar-SA" sz="2400" spc="-1" strike="noStrike">
                <a:solidFill>
                  <a:srgbClr val="ff0000"/>
                </a:solidFill>
                <a:latin typeface="Times New Roman"/>
                <a:ea typeface="Akhbar MT"/>
              </a:rPr>
              <a:t>1914</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حتّى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حين أعلنت الولايات المتّحدة الأمريكيّة الحرب ضدّ ألمانيا ودول المحور .</a:t>
            </a: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أمّا الأسباب التي أدّت إلى دخول الولايات المتّحدة الأمريكيّة الحرب مع بريطانيا ودول الوفاق, فهي:</a:t>
            </a:r>
            <a:endParaRPr b="0" lang="en-US" sz="2400" spc="-1" strike="noStrike">
              <a:solidFill>
                <a:srgbClr val="ffffff"/>
              </a:solidFill>
              <a:latin typeface="Times New Roman"/>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تخوّف الولايات المتحدّة من انتصار دول المحور وبالتّالي سيادة الألمان الذين يؤمنون بمبدأ التّفوّق  ونظريّة الحكم المطل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398160"/>
            <a:ext cx="8229600" cy="5732280"/>
          </a:xfrm>
          <a:prstGeom prst="rect">
            <a:avLst/>
          </a:prstGeom>
          <a:noFill/>
          <a:ln w="0">
            <a:noFill/>
          </a:ln>
        </p:spPr>
        <p:txBody>
          <a:bodyPr anchor="t">
            <a:normAutofit fontScale="75000"/>
          </a:bodyPr>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المشاعر المحليّة القويّة في ولاية نيو انجلاند تجاه البريطانييّن ودول الوفاق بعد أن داست الجيوش الألمانية حياد البلجيك, وهو أمر ظلّ الأمريكيون يبغضونه تماماً لأنه في نظرهم يمثّل أسلوب استخدام القوة من قبل الدّول الأقوى ضدّ الشّعوب الضعيفة.</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قتناع الأمريكيين بأنّ حيادهم هذا كانت محصّلة لعدّة اتجاهات أمريكيّة كانت تتناسب مع مرحلة معيّنة من مراحل الحرب يوم أن كانت تتساوى فيها القوى المتحاربة, إلا أنّ أمر الحياد أصبح غير مجٍ في ظل تفوّق دول الوسط على دول الوفاق.</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تعرّض اقتصاديّات الولايات المتّحدة الأمريكيّة لأزمة اقتصاديّة حادّة في أعقاب نشوب الحرب بسبب توقّف جانب كبير من صادراتها إلى أوروبّا وأصبح من الضّروري التّفكير الجادّ في وضع حدّ لهذه الحرب الضّروس حتّى يمكن وضع حدّ للأزمة الاقتصاديّة, ومن هنا كان لابدّ من التّفكير الجادّ في المشاركة في الحرب إلى جانب أصدقائهم و أقربائهم .</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حرب الغوّاصات التي شنّتها ألمانيا ضد السّفن التّجاريّة منذ عام </a:t>
            </a:r>
            <a:r>
              <a:rPr b="0" lang="ar-SA" sz="2400" spc="-1" strike="noStrike">
                <a:solidFill>
                  <a:srgbClr val="ff0000"/>
                </a:solidFill>
                <a:latin typeface="Times New Roman"/>
                <a:ea typeface="Akhbar MT"/>
              </a:rPr>
              <a:t>1915</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إصرار ألمانيا على الاستمرار في تنفيذ خطّة لودن دورف, وقد شملت هذه الحرب سفن دول الوفاق وسفن الدّول المحايدة على السّواء بخاصّة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سبباً مباشراً أدّى إلى دخولها إلى جانب دول الوفاق.</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رغبة دول الوفاق في جرّ الولايات المتّحدة الأمريكيّة للدّخول في الحرب إلى جانبهم, وهذا ما حدث بالفعل يوم أن اكتشف البريطانيّون أمرًاً مهماً بالنّسبة للولايات المتّحدة الأمريكيّة وهو أنّ ألمانيا كان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361440"/>
            <a:ext cx="8229600" cy="576900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ت قد عرضت على دولة المكسيك إعطاءها ولايات تكساس و أريزونا و نيو مكسيكو إذا هي هاجمت الولايات المتّحد الأمريكيّة ودخلت الحرب إلى جانب دول الوسط.</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7</a:t>
            </a:r>
            <a:r>
              <a:rPr b="0" lang="ar-SA" sz="2400" spc="-1" strike="noStrike">
                <a:solidFill>
                  <a:srgbClr val="ffff00"/>
                </a:solidFill>
                <a:latin typeface="Times New Roman"/>
                <a:ea typeface="Akhbar MT"/>
              </a:rPr>
              <a:t>- فشل الرّئيس الأمريكي ويلسون في توقّعه, إذ كان يأمل أن تطلب دول الوفاق ودول الوسط منه أن يقوم بالتّوسّط لإنهاء الحرب بعد إن تكون قد أنهكت الجميع وأجبرتهم على طلب الوساطة.</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ضعف الجبهة الرّوسيّة بعد اندلاع الثّورة البلشفيّة, مما أدّى إلى خروج روسيا البلشفيّة من الحرب, وبذلك ازدادت جبهة دول الوفاق ضعفاً مما أدّى بالولايات المتّحدة الأمريكيّة إلى التّفكير الجادّ في الدّخول في الحرب إلى جانب دول الوفاق بعد أن شعرت بتهاوي الجبهة الرّوسيّة البلشفيّة من جهة وصمود بريطانيا كدولة وحيدة في ميدان الحرب أمام الثّقل العسكري الألماني من جهة ثانية.</a:t>
            </a:r>
            <a:endParaRPr b="0" lang="en-US" sz="2400" spc="-1" strike="noStrike">
              <a:solidFill>
                <a:srgbClr val="ffffff"/>
              </a:solidFill>
              <a:latin typeface="Times New Roman"/>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9</a:t>
            </a:r>
            <a:r>
              <a:rPr b="0" lang="ar-SA" sz="2400" spc="-1" strike="noStrike">
                <a:solidFill>
                  <a:srgbClr val="ffff00"/>
                </a:solidFill>
                <a:latin typeface="Times New Roman"/>
                <a:ea typeface="Akhbar MT"/>
              </a:rPr>
              <a:t>- هناك آراء تاريخيّة تقول بأنّ الضغط اليهودي الكبير على الحكومة الأمريكيّة وعلى مجلس الكونجرس الأمريكي أدّى إلى دخول الولايات المتّحدة الأمريكيّة الحرب إلى جانب الإنجليز الذين عملوا جاهدين في سبيل إعلان وعد بلفو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إعلان الولايات المتّحدة الأمريكيّة الحرب على ألمانيا والنّمسا</a:t>
            </a:r>
            <a:endParaRPr b="1" lang="en-US" sz="3200" spc="-1" strike="noStrike">
              <a:solidFill>
                <a:srgbClr val="feec94"/>
              </a:solidFill>
              <a:latin typeface="Times New Roman"/>
            </a:endParaRPr>
          </a:p>
        </p:txBody>
      </p:sp>
      <p:sp>
        <p:nvSpPr>
          <p:cNvPr id="550" name=""/>
          <p:cNvSpPr txBox="1"/>
          <p:nvPr/>
        </p:nvSpPr>
        <p:spPr>
          <a:xfrm>
            <a:off x="457200" y="1599840"/>
            <a:ext cx="8229600" cy="453060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في </a:t>
            </a:r>
            <a:r>
              <a:rPr b="0" lang="ar-SA" sz="2400" spc="-1" strike="noStrike">
                <a:solidFill>
                  <a:srgbClr val="ff0000"/>
                </a:solidFill>
                <a:latin typeface="Times New Roman"/>
                <a:ea typeface="Akhbar MT"/>
              </a:rPr>
              <a:t>6</a:t>
            </a:r>
            <a:r>
              <a:rPr b="0" lang="ar-SA" sz="2400" spc="-1" strike="noStrike">
                <a:solidFill>
                  <a:srgbClr val="ff0000"/>
                </a:solidFill>
                <a:latin typeface="Times New Roman"/>
                <a:ea typeface="Akhbar MT"/>
              </a:rPr>
              <a:t> إبريل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أعلن حكومة الولايات المتّحدة الأمريكيّة الحرب على ألمانيا. واعتبرت الولايات الشرقيّة, ولايات نيو انجلاند أن هذا الإعلان كان يجب أن يكون في بداية الحرب لأنها كانت توّاقة للاشراك في الحرب منذ أيّامها الأولى.واعتبرت بعض الولايات الأخرى المتردّدة أنّ هذا الإعلان أصبح أمراً ضروريّاً وجاء في وقته المناسب لأنّ تردّدها قد زال بعد تطوّر ميادين الحرب, وبعد أن لاحظت أن تفوّقاً ملحوظاً أصبح إلى جانب دول الوسط بزعامة ألمانيا. أعلن الرّئيس الأمريكي ويلسون بموافقة أكثريّة أعضاء الكونجرس الحرب على ألمانيا, وقد أعلنت الحكومة الأمريكيّة بموافقة الكونجرس الحرب على النّمسا في </a:t>
            </a:r>
            <a:r>
              <a:rPr b="0" lang="ar-SA" sz="2400" spc="-1" strike="noStrike">
                <a:solidFill>
                  <a:srgbClr val="ff0000"/>
                </a:solidFill>
                <a:latin typeface="Times New Roman"/>
                <a:ea typeface="Akhbar MT"/>
              </a:rPr>
              <a:t>7</a:t>
            </a:r>
            <a:r>
              <a:rPr b="0" lang="ar-SA" sz="2400" spc="-1" strike="noStrike">
                <a:solidFill>
                  <a:srgbClr val="ff0000"/>
                </a:solidFill>
                <a:latin typeface="Times New Roman"/>
                <a:ea typeface="Akhbar MT"/>
              </a:rPr>
              <a:t> ديسمبر عام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أي أنّ إعلان الحرب على ألمانيا كان قد سبق إعلان الحرب على النّمسا بمدّة حوالي نصف سنة. كما أنّ الولايات المتّحدة الأمريكيّة لم تعلن  الحرب قطّ على الدّولة التّركيّة العثمانيّة بسبب ضعف الموقف العسكري لهاتين الدّولتين وبالتّالي تهاوي مقاومتها, ولم تبقى في الميدان من دول الوسط إلا دولة ألمانيا, الدّولة المؤثّرة والقويّة والمسيطرة وقتذاك. وبعد أن أعلنت الولايات المتّحدة الأمريكيّة الحرب على ألمانيا قامت كوبا فأعلنت الحرب على ألمانيا ولحقت بها دول أمريكا الوسطى باستثناء السّلفادور, ولكن دور دول أمريكا الوسطى ظلّ دوراً ضعيفاً لا يعدو كونه إعلان حرب فقط دون أن تشترك فعليّاً من جبهات القتال ض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544320"/>
            <a:ext cx="8229600" cy="5586120"/>
          </a:xfrm>
          <a:prstGeom prst="rect">
            <a:avLst/>
          </a:prstGeom>
          <a:noFill/>
          <a:ln w="0">
            <a:noFill/>
          </a:ln>
        </p:spPr>
        <p:txBody>
          <a:bodyPr anchor="t">
            <a:normAutofit fontScale="85000"/>
          </a:bodyPr>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لمانيا.</a:t>
            </a:r>
            <a:endParaRPr b="0" lang="en-US" sz="2400" spc="-1" strike="noStrike">
              <a:solidFill>
                <a:srgbClr val="ffffff"/>
              </a:solidFill>
              <a:latin typeface="Times New Roman"/>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khbar MT"/>
              </a:rPr>
              <a:t>موقف دول أمريكا الجنوبيّة:</a:t>
            </a:r>
            <a:endParaRPr b="0" lang="en-US" sz="32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شتركت </a:t>
            </a:r>
            <a:r>
              <a:rPr b="0" lang="ar-SA" sz="2400" spc="-1" strike="noStrike">
                <a:solidFill>
                  <a:srgbClr val="ff0000"/>
                </a:solidFill>
                <a:latin typeface="Times New Roman"/>
                <a:cs typeface="Akhbar MT"/>
              </a:rPr>
              <a:t>البرازيل</a:t>
            </a:r>
            <a:r>
              <a:rPr b="0" lang="ar-SA" sz="2400" spc="-1" strike="noStrike">
                <a:solidFill>
                  <a:srgbClr val="ffff00"/>
                </a:solidFill>
                <a:latin typeface="Times New Roman"/>
                <a:ea typeface="Akhbar MT"/>
              </a:rPr>
              <a:t> في الحرب ضدّ الألمان بشكل فعلي منذ </a:t>
            </a:r>
            <a:r>
              <a:rPr b="0" lang="ar-SA" sz="2400" spc="-1" strike="noStrike">
                <a:solidFill>
                  <a:srgbClr val="ff0000"/>
                </a:solidFill>
                <a:latin typeface="Times New Roman"/>
                <a:cs typeface="Akhbar MT"/>
              </a:rPr>
              <a:t>أكتوبر </a:t>
            </a:r>
            <a:r>
              <a:rPr b="0" lang="ar-SA" sz="2400" spc="-1" strike="noStrike">
                <a:solidFill>
                  <a:srgbClr val="ff0000"/>
                </a:solidFill>
                <a:latin typeface="Times New Roman"/>
                <a:ea typeface="Akhbar MT"/>
              </a:rPr>
              <a:t>1917</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متعاطفة مع الولايات المتّحدة الأمريكيّة من جهة, و لتعرّض سفنها إلى أضرار حرب الغوّاصات التي شنّتها ألمانيا على السّفن التّجاريّة التّابعة لأعدائها و التّابعة للدّول المحايدة التي لم تشترك في الحرب. وقدّمت البرازيل معونات ماديّة ومعنويّة لدول الوفاق, واستطاعت حراسة معابر السّفن التّابعة لدول الوفاق  في مناطق جنوب المحيط الأطلسي.</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ما قدّمت البرازيل بعض المعونات العسكريّة لفرنسا معبرة عن صدق مشاعرها تجاه دول التّحالف </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 الوفاق ).</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أمّا بقيّة دول أمريكا الجنوبيّة فمنها من قطع علاقاتها الدّبلوماسيّة مع ألمانيا كالأرجواي و بيرو و      إلإكوادور و بوليفيا و الأرجنتين. ومنها من وقف على الحياد. وعلى أية حال فإنّ مشاركة دول أمريكا الجنوبيّة في الحرب ومساندتها لدول الوفاق كانت بسيطة جداً فلم تقدّم مساعدات عسكريّة أو غذائيّة أو ماليّة تستحقّ الذّكر.</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نقاط ويلسون الأربع عشرة </a:t>
            </a:r>
            <a:endParaRPr b="1" lang="en-US" sz="3200" spc="-1" strike="noStrike">
              <a:solidFill>
                <a:srgbClr val="feec94"/>
              </a:solidFill>
              <a:latin typeface="Times New Roman"/>
            </a:endParaRPr>
          </a:p>
        </p:txBody>
      </p:sp>
      <p:sp>
        <p:nvSpPr>
          <p:cNvPr id="553" name=""/>
          <p:cNvSpPr txBox="1"/>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عندما دخلت الولايات المتحدة الأمريكية الحرب فكّر رئيسها ويلسون فيما سيؤول إليه العالم بعد هذه الحرب, وقد توصل الرئيس الأمريكي إلى المباديء الأربع عشرة التي عرفت </a:t>
            </a:r>
            <a:r>
              <a:rPr b="0" lang="ar-SA" sz="2400" spc="-1" strike="noStrike">
                <a:solidFill>
                  <a:srgbClr val="ff0000"/>
                </a:solidFill>
                <a:latin typeface="Times New Roman"/>
                <a:cs typeface="Akhbar MT"/>
              </a:rPr>
              <a:t>بنقاط ويلسون الأربع عشرة </a:t>
            </a:r>
            <a:r>
              <a:rPr b="0" lang="en-US" sz="2400" spc="-1" strike="noStrike">
                <a:solidFill>
                  <a:srgbClr val="ff0000"/>
                </a:solidFill>
                <a:latin typeface="Times New Roman"/>
                <a:ea typeface="Akhbar MT"/>
              </a:rPr>
              <a:t>The Fourteen Points</a:t>
            </a:r>
            <a:r>
              <a:rPr b="0" lang="ar-SA" sz="2400" spc="-1" strike="noStrike">
                <a:solidFill>
                  <a:srgbClr val="ff0000"/>
                </a:solidFill>
                <a:latin typeface="Times New Roman"/>
                <a:ea typeface="Akhbar MT"/>
              </a:rPr>
              <a:t> </a:t>
            </a:r>
            <a:r>
              <a:rPr b="0" lang="ar-SA" sz="2400" spc="-1" strike="noStrike">
                <a:solidFill>
                  <a:srgbClr val="ffff00"/>
                </a:solidFill>
                <a:latin typeface="Times New Roman"/>
                <a:cs typeface="Akhbar MT"/>
              </a:rPr>
              <a:t>وهي ما تضمنته رسالته الموجهة إلى الكونجرس في </a:t>
            </a: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تنصّ النّقاط الربع عشرة على:</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إلغاء الدبلوماسية السرية وانتهاج العمل الدبلوماسي العلني في عقد المعاهدات الدولية.</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حرّية التجارة و الملاحة الدولية في أوقات السلم و الحرب على السواء في جميع البحار والمحيطات و الممرات المائية.</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لعمل على خفض التسلح الدولي و الابتعاد عن سباق التسلح.</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حق البلاد المستعمرة في اختيار حكوماتها والعمل على تسوية المنافسات الاستعمارية بشكل يكفل رغبات السكان ومطالبهم.</a:t>
            </a:r>
            <a:endParaRPr b="0" lang="en-US" sz="2400" spc="-1" strike="noStrike">
              <a:solidFill>
                <a:srgbClr val="ffffff"/>
              </a:solidFill>
              <a:latin typeface="Times New Roman"/>
            </a:endParaRPr>
          </a:p>
          <a:p>
            <a:pPr marL="291600" indent="-291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العمل على إزالة جميع العوائق و الحواجز الاقتصادية بين بلدان العال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507600"/>
            <a:ext cx="8229600" cy="5622840"/>
          </a:xfrm>
          <a:prstGeom prst="rect">
            <a:avLst/>
          </a:prstGeom>
          <a:noFill/>
          <a:ln w="0">
            <a:noFill/>
          </a:ln>
        </p:spPr>
        <p:txBody>
          <a:bodyPr anchor="t">
            <a:normAutofit fontScale="70000"/>
          </a:bodyPr>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جلاء القوات الألمانية عن الأراضي الروس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7</a:t>
            </a:r>
            <a:r>
              <a:rPr b="0" lang="ar-SA" sz="2400" spc="-1" strike="noStrike">
                <a:solidFill>
                  <a:srgbClr val="ffff00"/>
                </a:solidFill>
                <a:latin typeface="Times New Roman"/>
                <a:ea typeface="Akhbar MT"/>
              </a:rPr>
              <a:t>- الجلاء عن الأراضي البلجيكية وإعطاء بلجيكا استقلالها و حريتها .</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8</a:t>
            </a:r>
            <a:r>
              <a:rPr b="0" lang="ar-SA" sz="2400" spc="-1" strike="noStrike">
                <a:solidFill>
                  <a:srgbClr val="ffff00"/>
                </a:solidFill>
                <a:latin typeface="Times New Roman"/>
                <a:ea typeface="Akhbar MT"/>
              </a:rPr>
              <a:t>- الجلاء الكامل عن الأراضي الفرنسية و المحافظة على السيادة الفرنسية الكاملة على أراضيها. وتسوية مسألة الألزاس و اللورين  وإصلاح ذات البين بين كل من فرنسا و ألمانيا.</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9</a:t>
            </a:r>
            <a:r>
              <a:rPr b="0" lang="ar-SA" sz="2400" spc="-1" strike="noStrike">
                <a:solidFill>
                  <a:srgbClr val="ffff00"/>
                </a:solidFill>
                <a:latin typeface="Times New Roman"/>
                <a:ea typeface="Akhbar MT"/>
              </a:rPr>
              <a:t>- إعطاء حق تقرير المصير للنمساويين و المجريين الذين كانت تنتظمهم دولة النّمسا – هنغاريا والعمل على إعطاء كل من الشعب النّمساوي  والشّعب المجري الحكم الذاتي.</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0</a:t>
            </a:r>
            <a:r>
              <a:rPr b="0" lang="ar-SA" sz="2400" spc="-1" strike="noStrike">
                <a:solidFill>
                  <a:srgbClr val="ffff00"/>
                </a:solidFill>
                <a:latin typeface="Times New Roman"/>
                <a:ea typeface="Akhbar MT"/>
              </a:rPr>
              <a:t>- العمل على إعادة تخطيط الحدود الإيطاليّة –النّمساويّة وفقاً لمبدأ التّكامل القومي لكل منهما.</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1</a:t>
            </a:r>
            <a:r>
              <a:rPr b="0" lang="ar-SA" sz="2400" spc="-1" strike="noStrike">
                <a:solidFill>
                  <a:srgbClr val="ffff00"/>
                </a:solidFill>
                <a:latin typeface="Times New Roman"/>
                <a:ea typeface="Akhbar MT"/>
              </a:rPr>
              <a:t>- حقّ تقرير المصير لكلّ الشّعوب التّابعة للدّولة العثمانيّة التّركيّة من أجل استكمال استقلالها الذّاتي, واعتبار مضيق الدردنيل حرّاً أمام جميع السفن التجاريّة وفقاً لضمانات دول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2</a:t>
            </a:r>
            <a:r>
              <a:rPr b="0" lang="ar-SA" sz="2400" spc="-1" strike="noStrike">
                <a:solidFill>
                  <a:srgbClr val="ffff00"/>
                </a:solidFill>
                <a:latin typeface="Times New Roman"/>
                <a:ea typeface="Akhbar MT"/>
              </a:rPr>
              <a:t>- جلاء القوات الأجنبية عن رومانيا و الصّرب و الجبل السود , وإعطاء صربيا منفذاً على البحر طبقاً لمعاهدات دوليّة  واحترام قاعدة التكامل القومي عند تسوية المسألة البلغاريّة والعمل على تعديل حدود البلقان بما يتفق مع أوضاعها التاريخية من جهة وتوزيع الإقليميات فيها من جهة ثان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3</a:t>
            </a:r>
            <a:r>
              <a:rPr b="0" lang="ar-SA" sz="2400" spc="-1" strike="noStrike">
                <a:solidFill>
                  <a:srgbClr val="ffff00"/>
                </a:solidFill>
                <a:latin typeface="Times New Roman"/>
                <a:ea typeface="Akhbar MT"/>
              </a:rPr>
              <a:t>- استقلال بولندا مع إعطائها منفذاً على بحر البلطيق طبقاً لمعاهدات وضمانات دوليّة.</a:t>
            </a:r>
            <a:endParaRPr b="0" lang="en-US" sz="2400" spc="-1" strike="noStrike">
              <a:solidFill>
                <a:srgbClr val="ffffff"/>
              </a:solidFill>
              <a:latin typeface="Times New Roman"/>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4</a:t>
            </a:r>
            <a:r>
              <a:rPr b="0" lang="ar-SA" sz="2400" spc="-1" strike="noStrike">
                <a:solidFill>
                  <a:srgbClr val="ffff00"/>
                </a:solidFill>
                <a:latin typeface="Times New Roman"/>
                <a:ea typeface="Akhbar MT"/>
              </a:rPr>
              <a:t>- تكوين جمعيّة عامّة أو عصبة أمم تعمل على حفظ الأمن وتوطيد السّلام واحترام أراضي الدول و حدودها, وتكفل في الوقت نفسه لجميع الدّول الكبيرة و الصّغيرة على حدٍّ سواء استقلالها السّياسي.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ماذا قدّمت الولايات المتّحدة الأمريكيّة لدول الوفاق بعد دخولها الحرب؟</a:t>
            </a:r>
            <a:endParaRPr b="1" lang="en-US" sz="3200" spc="-1" strike="noStrike">
              <a:solidFill>
                <a:srgbClr val="feec94"/>
              </a:solidFill>
              <a:latin typeface="Times New Roman"/>
            </a:endParaRPr>
          </a:p>
        </p:txBody>
      </p:sp>
      <p:sp>
        <p:nvSpPr>
          <p:cNvPr id="556" name=""/>
          <p:cNvSpPr txBox="1"/>
          <p:nvPr/>
        </p:nvSpPr>
        <p:spPr>
          <a:xfrm>
            <a:off x="457200" y="1599840"/>
            <a:ext cx="8229600" cy="4530600"/>
          </a:xfrm>
          <a:prstGeom prst="rect">
            <a:avLst/>
          </a:prstGeom>
          <a:noFill/>
          <a:ln w="0">
            <a:noFill/>
          </a:ln>
        </p:spPr>
        <p:txBody>
          <a:bodyPr anchor="t">
            <a:normAutofit fontScale="81000"/>
          </a:bodyPr>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كميّت كبيرة من المواد الغذائية عن طريق البيع.</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أسهم أسطولها إلى جانب الأسطول البريطاني في التعرض لغواصات دول المحور.</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أرسلت الولايات المتحدة الأمريكية الشباب الأمريكي المدرّب ليحاربوا إلى جانب صفوف البريطانيين والفرنسيين في ميدان القتال في فرنسا في الربع الأخير من </a:t>
            </a:r>
            <a:r>
              <a:rPr b="0" lang="ar-SA" sz="2400" spc="-1" strike="noStrike">
                <a:solidFill>
                  <a:srgbClr val="ff0000"/>
                </a:solidFill>
                <a:latin typeface="Times New Roman"/>
                <a:cs typeface="Akhbar MT"/>
              </a:rPr>
              <a:t>عام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في حدود مليون جندي تحملوا مسؤلية الهجوم على قوات هندنبرج في أوروبا.</a:t>
            </a: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يمكن القول أن دخول الولايات المتحدة الأمريكية الحرب العالمية الأولى إلى جانب دول الوفاق كان إيجابياً لهذه الدول فأحكم الحصار على الألمان وحسم الموقف مع بريطانيا , وشاركت الولايات المتحدة الأمريكية في تحمل أعباء مصاريف الحرب مع بريطانيا, ثمّ انضمت إلى جانبها في الحرب , وساهمت القروض المالية التي قدمتها الولايات المتحدة الأمريكية في تخفيف الأزمات المالية التي تكبدتها دول الوفا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p:nvPr>
        </p:nvSpPr>
        <p:spPr>
          <a:xfrm>
            <a:off x="287280" y="584280"/>
            <a:ext cx="8553600" cy="55087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rabic Transparent"/>
              </a:rPr>
              <a:t>ﺠ- </a:t>
            </a:r>
            <a:r>
              <a:rPr b="0" lang="ar-SA" sz="2400" spc="-1" strike="noStrike">
                <a:solidFill>
                  <a:srgbClr val="ffff00"/>
                </a:solidFill>
                <a:latin typeface="Times New Roman"/>
                <a:cs typeface="Akhbar MT"/>
              </a:rPr>
              <a:t>بحث تلك الدّول عن المواد الخام اللازمة للصّناعة وتطوّرها. </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د- البحث عن أسواق لبيع مصنوعاتها.</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مما أدى إلى الجشع المادي و الدّولي. وأدّى كذلك إلى تطوّر صناعة وسائل الحرب وأدواتها وساهم ذلك في قيام حركة تنافس حاد بين بريطانيا العظمى و فرنسا في مجال الاقتصاد والاستعمار. وحدث تنافس كبير بين كلّ من بريطانيا و فرنسا من جهة و ألمانيا من جهة ثانية. وخاصّة بعد قيام الاتحاد الألماني وقيام الشركات الألمانيّة الكبيرة, ودخول ألمانيا حلبة الاستعمار الاقتصادي المتطوّر الذي جرّ بدوره استعماراً سياسيّاً لأنّ الاستعمار السّياسي في العصر الحديث هو وليد الاستعمار الاقتصادي.</a:t>
            </a:r>
            <a:endParaRPr b="0" lang="en-US" sz="2400" spc="-1" strike="noStrike">
              <a:solidFill>
                <a:srgbClr val="ffffff"/>
              </a:solidFill>
              <a:latin typeface="Times New Roman"/>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2</a:t>
            </a:r>
            <a:r>
              <a:rPr b="0" lang="ar-SA" sz="2800" spc="-1" strike="noStrike">
                <a:solidFill>
                  <a:srgbClr val="000000"/>
                </a:solidFill>
                <a:latin typeface="Times New Roman"/>
                <a:ea typeface="Akhbar MT"/>
              </a:rPr>
              <a:t>- التّحالفات الدّوليّة:</a:t>
            </a:r>
            <a:endParaRPr b="0" lang="en-US" sz="28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من أهمّ التّحالفات الدّوليّة: </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لتّحالف الثّنائي القائم بين الإمبراطورية الألمانيّة والإمبراطوريّة النمساويّة عام </a:t>
            </a:r>
            <a:r>
              <a:rPr b="0" lang="ar-SA" sz="2400" spc="-1" strike="noStrike">
                <a:solidFill>
                  <a:srgbClr val="ff0000"/>
                </a:solidFill>
                <a:latin typeface="Times New Roman"/>
                <a:ea typeface="Akhbar MT"/>
              </a:rPr>
              <a:t>1879</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67480" indent="-2674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تّحالف الثّلاثي بين الإمبراطورية الألمانيّة والإمبراطوريّة النّمساويّة ومملكة إيطاليا عام </a:t>
            </a:r>
            <a:r>
              <a:rPr b="0" lang="ar-SA" sz="2400" spc="-1" strike="noStrike">
                <a:solidFill>
                  <a:srgbClr val="ff0000"/>
                </a:solidFill>
                <a:latin typeface="Times New Roman"/>
                <a:ea typeface="Akhbar MT"/>
              </a:rPr>
              <a:t>188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khbar MT"/>
              </a:rPr>
              <a:t>   </a:t>
            </a:r>
            <a:r>
              <a:rPr b="0" lang="ar-SA" sz="2400" spc="-1" strike="noStrike">
                <a:solidFill>
                  <a:srgbClr val="ffff00"/>
                </a:solidFill>
                <a:latin typeface="Times New Roman"/>
                <a:cs typeface="Akhbar MT"/>
              </a:rPr>
              <a:t>وقد أصبح التّحالف الثّنائي ثلاثيّاً بعد انضمام مملكة إيطاليا لهذا التّحالف عام </a:t>
            </a:r>
            <a:r>
              <a:rPr b="0" lang="ar-SA" sz="2400" spc="-1" strike="noStrike">
                <a:solidFill>
                  <a:srgbClr val="ff0000"/>
                </a:solidFill>
                <a:latin typeface="Times New Roman"/>
                <a:ea typeface="Akhbar MT"/>
              </a:rPr>
              <a:t>188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على الرّغم من أنّ مصالح إيطاليا لم تتفق إلى حدٍّ كبير مع مصالح الإمبراطوريّة الفرنسيّة.</a:t>
            </a: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دور الولايات المتحدة الأمريكية في مؤتمر السّلام عام </a:t>
            </a:r>
            <a:r>
              <a:rPr b="1" lang="ar-SA" sz="3200" spc="-1" strike="noStrike">
                <a:solidFill>
                  <a:srgbClr val="000000"/>
                </a:solidFill>
                <a:latin typeface="Times New Roman"/>
                <a:ea typeface="Akhbar MT"/>
              </a:rPr>
              <a:t>1919</a:t>
            </a:r>
            <a:r>
              <a:rPr b="1" lang="ar-SA" sz="3200" spc="-1" strike="noStrike">
                <a:solidFill>
                  <a:srgbClr val="000000"/>
                </a:solidFill>
                <a:latin typeface="Times New Roman"/>
                <a:cs typeface="Akhbar MT"/>
              </a:rPr>
              <a:t>م</a:t>
            </a:r>
            <a:endParaRPr b="1" lang="en-US" sz="3200" spc="-1" strike="noStrike">
              <a:solidFill>
                <a:srgbClr val="feec94"/>
              </a:solidFill>
              <a:latin typeface="Times New Roman"/>
            </a:endParaRPr>
          </a:p>
        </p:txBody>
      </p:sp>
      <p:sp>
        <p:nvSpPr>
          <p:cNvPr id="558" name=""/>
          <p:cNvSpPr txBox="1"/>
          <p:nvPr/>
        </p:nvSpPr>
        <p:spPr>
          <a:xfrm>
            <a:off x="457200" y="1599840"/>
            <a:ext cx="8229600" cy="4530600"/>
          </a:xfrm>
          <a:prstGeom prst="rect">
            <a:avLst/>
          </a:prstGeom>
          <a:noFill/>
          <a:ln w="0">
            <a:noFill/>
          </a:ln>
        </p:spPr>
        <p:txBody>
          <a:bodyPr anchor="t">
            <a:normAutofit fontScale="76000"/>
          </a:bodyPr>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لعبت الولايات المتحدة الأمريكية دور بارز في مؤتمر السّلام</a:t>
            </a:r>
            <a:r>
              <a:rPr b="0" lang="en-US" sz="2400" spc="-1" strike="noStrike">
                <a:solidFill>
                  <a:srgbClr val="ffff00"/>
                </a:solidFill>
                <a:latin typeface="Times New Roman"/>
                <a:ea typeface="Akhbar MT"/>
              </a:rPr>
              <a:t>Peace Conference</a:t>
            </a:r>
            <a:r>
              <a:rPr b="0" lang="en-US"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 في باريس عام </a:t>
            </a:r>
            <a:r>
              <a:rPr b="0" lang="ar-SA" sz="2400" spc="-1" strike="noStrike">
                <a:solidFill>
                  <a:srgbClr val="ffff00"/>
                </a:solidFill>
                <a:latin typeface="Times New Roman"/>
                <a:ea typeface="Akhbar MT"/>
              </a:rPr>
              <a:t>1919</a:t>
            </a:r>
            <a:r>
              <a:rPr b="0" lang="ar-SA" sz="2400" spc="-1" strike="noStrike">
                <a:solidFill>
                  <a:srgbClr val="ffff00"/>
                </a:solidFill>
                <a:latin typeface="Times New Roman"/>
                <a:cs typeface="Akhbar MT"/>
              </a:rPr>
              <a:t>م ممثلة في شخص رئيسها إدوارد ويلسون إلى جانب بريطانيا الممثلة برئيس وزرائها لويد جورج وفرنسا الممثلة برئيس وزرائها كليمنصو وإيطاليا برئيس وزرائها أورلاندو , وكان للثقل الأمريكي الضاغط في الحرب أثر كبير في دور الولايات المتحدة الأمريكية في مؤتمر السّلام , إضافة إلى المركز الكبير للرئيس الأمريكي في قمة السلطة في الولايات المتحدة الأمريكية وبيده سلطات قوية يتمتع بها من خلال اختصاصات الرئاسة الأمريكية وقد وصفه كتاب أوروبا في القرنين التاسع عشر و العشرين لمؤلفيه البريطانيين تمبرلي وجرانت بالآتي:</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 ويلسون يبدو أنه أعظم الثلاثة المجتمعين شأناً وسلطاناً </a:t>
            </a:r>
            <a:endParaRPr b="0" lang="en-US" sz="2400" spc="-1" strike="noStrike">
              <a:solidFill>
                <a:srgbClr val="ffffff"/>
              </a:solidFill>
              <a:latin typeface="Times New Roman"/>
            </a:endParaRPr>
          </a:p>
          <a:p>
            <a:pPr marL="260640" indent="-260640" algn="r" rtl="1">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إنهاء الحرب:</a:t>
            </a:r>
            <a:endParaRPr b="0" lang="en-US" sz="32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لقد طلب لود ندورف الألماني الصلح في مذكرة أرسلت إلى الرئيس ولسون في </a:t>
            </a:r>
            <a:r>
              <a:rPr b="0" lang="ar-SA" sz="2400" spc="-1" strike="noStrike">
                <a:solidFill>
                  <a:srgbClr val="ff0000"/>
                </a:solidFill>
                <a:latin typeface="Times New Roman"/>
                <a:ea typeface="Akhbar MT"/>
              </a:rPr>
              <a:t>3</a:t>
            </a:r>
            <a:r>
              <a:rPr b="0" lang="ar-SA" sz="2400" spc="-1" strike="noStrike">
                <a:solidFill>
                  <a:srgbClr val="ff0000"/>
                </a:solidFill>
                <a:latin typeface="Times New Roman"/>
                <a:ea typeface="Akhbar MT"/>
              </a:rPr>
              <a:t> أكتوب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وافقت دول الوفاق في </a:t>
            </a:r>
            <a:r>
              <a:rPr b="0" lang="ar-SA" sz="2400" spc="-1" strike="noStrike">
                <a:solidFill>
                  <a:srgbClr val="ff0000"/>
                </a:solidFill>
                <a:latin typeface="Times New Roman"/>
                <a:ea typeface="Akhbar MT"/>
              </a:rPr>
              <a:t>5</a:t>
            </a:r>
            <a:r>
              <a:rPr b="0" lang="ar-SA" sz="2400" spc="-1" strike="noStrike">
                <a:solidFill>
                  <a:srgbClr val="ff0000"/>
                </a:solidFill>
                <a:latin typeface="Times New Roman"/>
                <a:ea typeface="Akhbar MT"/>
              </a:rPr>
              <a:t> نوفمب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على إنهاء الحرب وتوقيع صلح مع دول الوسط على أساس مباديء الرئيس ولسون باستثناء البند الخاص بحرية البحار مع إضافة بند خاص للتعويض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544320"/>
            <a:ext cx="8229600" cy="558612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وافقت ألمانيا على ذلك .</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دأ مؤتمر السلام  أعماله في باريس في </a:t>
            </a:r>
            <a:r>
              <a:rPr b="0" lang="ar-SA" sz="2400" spc="-1" strike="noStrike">
                <a:solidFill>
                  <a:srgbClr val="ff0000"/>
                </a:solidFill>
                <a:latin typeface="Times New Roman"/>
                <a:ea typeface="Akhbar MT"/>
              </a:rPr>
              <a:t>12</a:t>
            </a:r>
            <a:r>
              <a:rPr b="0" lang="ar-SA" sz="2400" spc="-1" strike="noStrike">
                <a:solidFill>
                  <a:srgbClr val="ff00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كان أول مبدأ مهم في مؤتمر السلام هو المبدأ الخاص بإنشاء عصبة الأمم وهو من أحد البنود الأربع عشرة التي نادى بها الرّئيس الأمريكي في </a:t>
            </a:r>
            <a:r>
              <a:rPr b="0" lang="ar-SA" sz="2400" spc="-1" strike="noStrike">
                <a:solidFill>
                  <a:srgbClr val="ff0000"/>
                </a:solidFill>
                <a:latin typeface="Times New Roman"/>
                <a:ea typeface="Akhbar MT"/>
              </a:rPr>
              <a:t>8</a:t>
            </a:r>
            <a:r>
              <a:rPr b="0" lang="ar-SA" sz="2400" spc="-1" strike="noStrike">
                <a:solidFill>
                  <a:srgbClr val="ff0000"/>
                </a:solidFill>
                <a:latin typeface="Times New Roman"/>
                <a:ea typeface="Akhbar MT"/>
              </a:rPr>
              <a:t> 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ركز الرئيس ولسون على مبدأ قيام عصبة الأمم </a:t>
            </a:r>
            <a:r>
              <a:rPr b="0" lang="en-US" sz="2400" spc="-1" strike="noStrike">
                <a:solidFill>
                  <a:srgbClr val="ffff00"/>
                </a:solidFill>
                <a:latin typeface="Times New Roman"/>
                <a:ea typeface="Akhbar MT"/>
              </a:rPr>
              <a:t>League Of Nations</a:t>
            </a:r>
            <a:r>
              <a:rPr b="0" lang="ar-SA" sz="2400" spc="-1" strike="noStrike">
                <a:solidFill>
                  <a:srgbClr val="ffff00"/>
                </a:solidFill>
                <a:latin typeface="Times New Roman"/>
                <a:ea typeface="Akhbar MT"/>
              </a:rPr>
              <a:t> وأصرّ على أن تكون العصبة جزء من نظام معاهدة الصّلح وقد نجح في ذلك على الرّغم من المعارضة الشّديدة التي اصطدم بها مشروعه هذا.</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الجدير بالذكر أن الرئيس الأمريكي ولسون لم يستطع إقناع مجلس الشيوخ في الولايات المتحدة الأمريكية في التصديق على اتفاقية الصلح وميثاق عصبة الأمم في </a:t>
            </a:r>
            <a:r>
              <a:rPr b="0" lang="ar-SA" sz="2400" spc="-1" strike="noStrike">
                <a:solidFill>
                  <a:srgbClr val="ff0000"/>
                </a:solidFill>
                <a:latin typeface="Times New Roman"/>
                <a:cs typeface="Akhbar MT"/>
              </a:rPr>
              <a:t>مارس عام </a:t>
            </a:r>
            <a:r>
              <a:rPr b="0" lang="ar-SA" sz="2400" spc="-1" strike="noStrike">
                <a:solidFill>
                  <a:srgbClr val="ff0000"/>
                </a:solidFill>
                <a:latin typeface="Times New Roman"/>
                <a:ea typeface="Akhbar MT"/>
              </a:rPr>
              <a:t>1920</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يعود ذلك لعدة أسباب من أهمها:</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لأن الرئيس ولسون وقع على معاهدة الصلح قبل أن يعرضها على مجلس شيوخه.</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لأنّ الكونجرس رفض أن يربط الولايات المتحدة الأمريكية بأي معاهدات دولية أوروبية وقرر أن تعود بلاده على مبدأ العزلة بعد أن أدت واجبها تجاه بريطانيا ودول الوفاق.</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اقتناع عدد كبير من رجال الكونجرس الأمريكي وبعض الموظفين الأمريكيين الإداريين وعدد كبير من أفراد الشعب الأمريكي بأنّ الحياد هو الوسيلة الوحيدة لتقدمهم والحفاظ على مصالحهم في أوروبا وخارجها بخاصة بعد موجة الرّخاء الاقتصادي في الولايات المتحدة الأمريكية عقب الحرب مباشرة.</a:t>
            </a:r>
            <a:endParaRPr b="0" lang="en-US" sz="2400" spc="-1" strike="noStrike">
              <a:solidFill>
                <a:srgbClr val="ffffff"/>
              </a:solidFill>
              <a:latin typeface="Times New Roman"/>
            </a:endParaRPr>
          </a:p>
          <a:p>
            <a:pPr marL="253800" indent="-25380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471600"/>
            <a:ext cx="8229600" cy="5659200"/>
          </a:xfrm>
          <a:prstGeom prst="rect">
            <a:avLst/>
          </a:prstGeom>
          <a:noFill/>
          <a:ln w="0">
            <a:noFill/>
          </a:ln>
        </p:spPr>
        <p:txBody>
          <a:bodyPr anchor="t">
            <a:normAutofit fontScale="75000"/>
          </a:bodyPr>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الشعور العام لدى عدد كبير من رجال الكونجرس الأمريكي بأنّ الرئيس الأمريكي وودورد ولسون كان قد استغل السلطات الاستثنائية التي خولت له عندما دخلت الولايات المتحدة الأمريكية الحرب العالمية الأولى بموجب قانون </a:t>
            </a:r>
            <a:r>
              <a:rPr b="0" lang="ar-SA" sz="2400" spc="-1" strike="noStrike">
                <a:solidFill>
                  <a:srgbClr val="ff0000"/>
                </a:solidFill>
                <a:latin typeface="Times New Roman"/>
                <a:cs typeface="Akhbar MT"/>
              </a:rPr>
              <a:t>يناير </a:t>
            </a:r>
            <a:r>
              <a:rPr b="0" lang="ar-SA" sz="2400" spc="-1" strike="noStrike">
                <a:solidFill>
                  <a:srgbClr val="ff0000"/>
                </a:solidFill>
                <a:latin typeface="Times New Roman"/>
                <a:ea typeface="Akhbar MT"/>
              </a:rPr>
              <a:t>191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المعروف بقانون أوفر مان </a:t>
            </a:r>
            <a:r>
              <a:rPr b="0" lang="en-US" sz="2400" spc="-1" strike="noStrike">
                <a:solidFill>
                  <a:srgbClr val="ffff00"/>
                </a:solidFill>
                <a:latin typeface="Times New Roman"/>
                <a:ea typeface="Akhbar MT"/>
              </a:rPr>
              <a:t>Over Man</a:t>
            </a:r>
            <a:r>
              <a:rPr b="0" lang="en-US"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 فقد استخدم ولسون هذه السلطات في إقرار كثير من الأمور والقضايا القومية دون الرجوع على مجلس الكونجرس.</a:t>
            </a:r>
            <a:endParaRPr b="0" lang="en-US" sz="2400" spc="-1" strike="noStrike">
              <a:solidFill>
                <a:srgbClr val="ffffff"/>
              </a:solidFill>
              <a:latin typeface="Times New Roman"/>
            </a:endParaRPr>
          </a:p>
          <a:p>
            <a:pPr marL="257040" indent="-257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1" lang="ar-SA" sz="3200" spc="-1" strike="noStrike">
                <a:solidFill>
                  <a:srgbClr val="000000"/>
                </a:solidFill>
                <a:latin typeface="Times New Roman"/>
                <a:cs typeface="Akhbar MT"/>
              </a:rPr>
              <a:t>نتائج مؤتمر فرساي </a:t>
            </a:r>
            <a:r>
              <a:rPr b="1" lang="ar-SA" sz="3200" spc="-1" strike="noStrike">
                <a:solidFill>
                  <a:srgbClr val="000000"/>
                </a:solidFill>
                <a:latin typeface="Times New Roman"/>
                <a:ea typeface="Akhbar MT"/>
              </a:rPr>
              <a:t>1919</a:t>
            </a:r>
            <a:r>
              <a:rPr b="1" lang="ar-SA" sz="3200" spc="-1" strike="noStrike">
                <a:solidFill>
                  <a:srgbClr val="000000"/>
                </a:solidFill>
                <a:latin typeface="Times New Roman"/>
                <a:cs typeface="Akhbar MT"/>
              </a:rPr>
              <a:t>م:</a:t>
            </a:r>
            <a:endParaRPr b="0" lang="en-US" sz="32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دافع الرئيس الأمريكي عن حق تقرير المصير إلا أنه اضطر إلى الانحناء أمام العاصفة التي قابلته من قبل بريطانيا وفرنسا وإيطاليا التي اتفقت سراً على تقسيم المستعمرات الألمانية والولايات العثمانية فيما بينهم بغض النظر عن مبدأ حق تقرير المصير الذي ينادي به الرئيس الأمريكي ولسون, وتحت الضغط الأوروبي على ولسون قبل أن يعطي حق تقرير المصير لبعض شعوب أوروبا وأقلياتها دون الاهتمام بحق تقرير المصير للشعوب الآسيوية و الأفريقية واضطر الرئيس ولسون قبول مبدأ جديد طالبت به الدول المنتصرة في الحرب وهو مبدأ التعويضات التي يجب على الدول المهزومة أن تدفعها إلى الدول المنتصرة تحت مبدأ القهر والقوة كدليل على أن معاهدات السلام تخدم الدول المنتصرة التي تصوغ بنودها وتنعكس آثارها السيئة على الدول المغلوبة التي أصبح لا حول لها ولا قوة </a:t>
            </a:r>
            <a:endParaRPr b="0" lang="en-US" sz="2400" spc="-1" strike="noStrike">
              <a:solidFill>
                <a:srgbClr val="ffffff"/>
              </a:solidFill>
              <a:latin typeface="Times New Roman"/>
            </a:endParaRPr>
          </a:p>
          <a:p>
            <a:pPr marL="257040" indent="-257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قد تخلى الرئيس الأمريكي ولسون عن كثير من مبادئه التي نادى بها قبيل نهاية الحرب في سبيل إقناع الدول الأقطاب بريطانيا وفرنسا وإيطاليا و اليابان بمشروعه الرامي إلى قيام عصبة الأم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471600"/>
            <a:ext cx="8229600" cy="5659200"/>
          </a:xfrm>
          <a:prstGeom prst="rect">
            <a:avLst/>
          </a:prstGeom>
          <a:noFill/>
          <a:ln w="0">
            <a:noFill/>
          </a:ln>
        </p:spPr>
        <p:txBody>
          <a:bodyPr anchor="t">
            <a:normAutofit fontScale="74000"/>
          </a:bodyPr>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فأقر كثير من الأمور التي تعارض نقاطه الأربع عشر أمام إصرار هذه الدول على تقسيم المستعمرات الألمانية والولايات العثمانية فيما بينها وبهذا الأسلوب فإن معاهدة الصلح أقرت استعمار جديد في ثوب جديد رضخت لسيطرته الشعوب الفقيرة مما أدى إلى قيام صراع طويل و مرير بين الشعوب المستعمرة وبين الدول المستعمِرة وما هذا إلا دلالة واضحة على فشل سياسة الرئيس الأمريكي ولسون ومثاليته لأن المباديء شيء والتطبيق شيء آخر.</a:t>
            </a:r>
            <a:endParaRPr b="0" lang="en-US" sz="2400" spc="-1" strike="noStrike">
              <a:solidFill>
                <a:srgbClr val="ffffff"/>
              </a:solidFill>
              <a:latin typeface="Times New Roman"/>
            </a:endParaRPr>
          </a:p>
          <a:p>
            <a:pPr marL="253800" indent="-253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khbar MT"/>
              </a:rPr>
              <a:t>عودة الولايات المتحدة الأمريكية إلى مبدأ العزلة:</a:t>
            </a:r>
            <a:endParaRPr b="0" lang="en-US" sz="32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عادت الولايات المتحدة الأمريكية إلى عزلتها والتركيز على شئون الجزء الغربي من العالم ومن هنا ركزت الولايات المتحدة الأمريكية على التقارب بينهما وبين جمهورية أمريكا اللاتينية والاهتمام بأمر جامعة الدول الأمريكية وحلّ النزاعات والخلافات القائمة بين تلك الدّول من جهة وبينها وبين بعضها بعضاً من جهة ثانية. وتم تطبيق مبدأ العزلة كما يلي:</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a:t>
            </a:r>
            <a:r>
              <a:rPr b="1" lang="ar-SA" sz="2400" spc="-1" strike="noStrike">
                <a:solidFill>
                  <a:srgbClr val="ffff00"/>
                </a:solidFill>
                <a:latin typeface="Times New Roman"/>
                <a:ea typeface="Akhbar MT"/>
              </a:rPr>
              <a:t>1</a:t>
            </a:r>
            <a:r>
              <a:rPr b="1" lang="ar-SA" sz="2400" spc="-1" strike="noStrike">
                <a:solidFill>
                  <a:srgbClr val="ffff00"/>
                </a:solidFill>
                <a:latin typeface="Times New Roman"/>
                <a:ea typeface="Akhbar MT"/>
              </a:rPr>
              <a:t>- توصلت الدول الأمريكية في المؤتمر الذي عقد بمنتفيديو في الأرجواي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3</a:t>
            </a:r>
            <a:r>
              <a:rPr b="1" lang="ar-SA" sz="2400" spc="-1" strike="noStrike">
                <a:solidFill>
                  <a:srgbClr val="ff0000"/>
                </a:solidFill>
                <a:latin typeface="Times New Roman"/>
                <a:cs typeface="Akhbar MT"/>
              </a:rPr>
              <a:t>م</a:t>
            </a:r>
            <a:r>
              <a:rPr b="1" lang="ar-SA" sz="2400" spc="-1" strike="noStrike">
                <a:solidFill>
                  <a:srgbClr val="ffff00"/>
                </a:solidFill>
                <a:latin typeface="Times New Roman"/>
                <a:ea typeface="Akhbar MT"/>
              </a:rPr>
              <a:t> والمؤتمر الذي عقد في بيونس آيرس  بالأرجنتين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6</a:t>
            </a:r>
            <a:r>
              <a:rPr b="1" lang="ar-SA" sz="2400" spc="-1" strike="noStrike">
                <a:solidFill>
                  <a:srgbClr val="ff0000"/>
                </a:solidFill>
                <a:latin typeface="Times New Roman"/>
                <a:cs typeface="Akhbar MT"/>
              </a:rPr>
              <a:t>م</a:t>
            </a:r>
            <a:r>
              <a:rPr b="1" lang="ar-SA" sz="2400" spc="-1" strike="noStrike">
                <a:solidFill>
                  <a:srgbClr val="ffff00"/>
                </a:solidFill>
                <a:latin typeface="Times New Roman"/>
                <a:ea typeface="Akhbar MT"/>
              </a:rPr>
              <a:t> والمؤتمر الذي عقد في ليما في بيرو </a:t>
            </a:r>
            <a:r>
              <a:rPr b="1" lang="ar-SA" sz="2400" spc="-1" strike="noStrike">
                <a:solidFill>
                  <a:srgbClr val="ff0000"/>
                </a:solidFill>
                <a:latin typeface="Times New Roman"/>
                <a:cs typeface="Akhbar MT"/>
              </a:rPr>
              <a:t>عام </a:t>
            </a:r>
            <a:r>
              <a:rPr b="1" lang="ar-SA" sz="2400" spc="-1" strike="noStrike">
                <a:solidFill>
                  <a:srgbClr val="ff0000"/>
                </a:solidFill>
                <a:latin typeface="Times New Roman"/>
                <a:ea typeface="Akhbar MT"/>
              </a:rPr>
              <a:t>1938</a:t>
            </a:r>
            <a:r>
              <a:rPr b="1"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الى تقليل الحواجز الجمركية والعقبات الاقتصادية بين دول القارة الأمريكية التي اشتركت في هذه المؤتمرات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53800" indent="-253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471600"/>
            <a:ext cx="8229600" cy="5659200"/>
          </a:xfrm>
          <a:prstGeom prst="rect">
            <a:avLst/>
          </a:prstGeom>
          <a:noFill/>
          <a:ln w="0">
            <a:noFill/>
          </a:ln>
        </p:spPr>
        <p:txBody>
          <a:bodyPr anchor="t">
            <a:normAutofit fontScale="90000"/>
          </a:bodyPr>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تقديم القروض لدول أمريكا اللاتينية ومنعت ذلك عن دول أوروبا التي ظلت تعيث في جو الحرب والخلافات بعد توقيع معاهدة الصلح في أعقاب الحرب العالمية الأولى.</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أصدر الكونجرس الأمريكي قراراً بمنع بيع الأسلحة إلى أوروبا في حال وقوع حرب أوروبية جديدة.</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سن الكونجرس ضرائب عالية على السلع الأجنبية لتحاشي استيرادها من جهة وحماية للبضاعة الأمريكية من جهة ثانية .</a:t>
            </a: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شاركت الولايات المتحدة الأمريكية مشاركة فاعلة في معاهدة نزع السلاح البحري في فترة مابين الحربين العالميتين وهكذا غيرت الولايات المتحدة الأمريكية أسلوبها السّياسي تجاه مبدأ العزلة الأمريكية أو مبدأ مونرو وأخذت تعمل في خطين دبلوماسيين خط الإفادة من مبدأ العزلة في تثبيت استراتيجيتها في القارة الأمريكية وخط ثاني موازي للخط الأول وهو التعامل مع دول العالم بشكل يخدم مصالحها الجديدة في مناطق الشرق الآسيوي ومناطق الساحل الإفريقي الشمالي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معاهدات فرضت على الدول المنهزمة</a:t>
            </a:r>
            <a:endParaRPr b="1" lang="en-US" sz="4400" spc="-1" strike="noStrike">
              <a:solidFill>
                <a:srgbClr val="feec94"/>
              </a:solidFill>
              <a:latin typeface="Times New Roman"/>
            </a:endParaRPr>
          </a:p>
        </p:txBody>
      </p:sp>
      <p:sp>
        <p:nvSpPr>
          <p:cNvPr id="564" name=""/>
          <p:cNvSpPr txBox="1"/>
          <p:nvPr/>
        </p:nvSpPr>
        <p:spPr>
          <a:xfrm>
            <a:off x="457200" y="1599840"/>
            <a:ext cx="8229600" cy="453060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تغيرت بسبب الحرب الخريطة السياسية لأوربا</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 </a:t>
            </a:r>
            <a:r>
              <a:rPr b="1" lang="ar-SA" sz="3200" spc="-1" strike="noStrike">
                <a:solidFill>
                  <a:srgbClr val="ffff00"/>
                </a:solidFill>
                <a:latin typeface="Times New Roman"/>
              </a:rPr>
              <a:t>النتائج السياسية</a:t>
            </a:r>
            <a:r>
              <a:rPr b="1" lang="en-US" sz="3200" spc="-1" strike="noStrike">
                <a:solidFill>
                  <a:srgbClr val="ffff00"/>
                </a:solidFill>
                <a:latin typeface="Times New Roman"/>
              </a:rPr>
              <a:t>:</a:t>
            </a:r>
            <a:br>
              <a:rPr sz="3200"/>
            </a:br>
            <a:r>
              <a:rPr b="0" lang="en-US" sz="3200" spc="-1" strike="noStrike">
                <a:solidFill>
                  <a:srgbClr val="ffffff"/>
                </a:solidFill>
                <a:latin typeface="Times New Roman"/>
              </a:rPr>
              <a:t>•</a:t>
            </a:r>
            <a:r>
              <a:rPr b="0" lang="ar-SA" sz="3200" spc="-1" strike="noStrike">
                <a:solidFill>
                  <a:srgbClr val="ffffff"/>
                </a:solidFill>
                <a:latin typeface="Times New Roman"/>
              </a:rPr>
              <a:t>انعقد مؤتمر السلام في باريس ما بين</a:t>
            </a:r>
            <a:r>
              <a:rPr b="0" lang="ar-SA" sz="3200" spc="-1" strike="noStrike">
                <a:solidFill>
                  <a:srgbClr val="ffffff"/>
                </a:solidFill>
                <a:latin typeface="Times New Roman"/>
              </a:rPr>
              <a:t>18</a:t>
            </a:r>
            <a:r>
              <a:rPr b="0" lang="ar-SA" sz="3200" spc="-1" strike="noStrike">
                <a:solidFill>
                  <a:srgbClr val="ffffff"/>
                </a:solidFill>
                <a:latin typeface="Times New Roman"/>
              </a:rPr>
              <a:t>يناير و</a:t>
            </a:r>
            <a:r>
              <a:rPr b="0" lang="ar-SA" sz="3200" spc="-1" strike="noStrike">
                <a:solidFill>
                  <a:srgbClr val="ffffff"/>
                </a:solidFill>
                <a:latin typeface="Times New Roman"/>
              </a:rPr>
              <a:t>28</a:t>
            </a:r>
            <a:r>
              <a:rPr b="0" lang="ar-SA" sz="3200" spc="-1" strike="noStrike">
                <a:solidFill>
                  <a:srgbClr val="ffffff"/>
                </a:solidFill>
                <a:latin typeface="Times New Roman"/>
              </a:rPr>
              <a:t>يونيو</a:t>
            </a:r>
            <a:r>
              <a:rPr b="0" lang="ar-SA" sz="3200" spc="-1" strike="noStrike">
                <a:solidFill>
                  <a:srgbClr val="ffffff"/>
                </a:solidFill>
                <a:latin typeface="Times New Roman"/>
              </a:rPr>
              <a:t>1919</a:t>
            </a:r>
            <a:r>
              <a:rPr b="0" lang="ar-SA" sz="3200" spc="-1" strike="noStrike">
                <a:solidFill>
                  <a:srgbClr val="ffffff"/>
                </a:solidFill>
                <a:latin typeface="Times New Roman"/>
              </a:rPr>
              <a:t>وشارك فيه</a:t>
            </a:r>
            <a:r>
              <a:rPr b="0" lang="ar-SA" sz="3200" spc="-1" strike="noStrike">
                <a:solidFill>
                  <a:srgbClr val="ffffff"/>
                </a:solidFill>
                <a:latin typeface="Times New Roman"/>
              </a:rPr>
              <a:t>32</a:t>
            </a:r>
            <a:r>
              <a:rPr b="0" lang="ar-SA" sz="3200" spc="-1" strike="noStrike">
                <a:solidFill>
                  <a:srgbClr val="ffffff"/>
                </a:solidFill>
                <a:latin typeface="Times New Roman"/>
              </a:rPr>
              <a:t>بلدا من بينها</a:t>
            </a:r>
            <a:r>
              <a:rPr b="0" lang="ar-SA" sz="3200" spc="-1" strike="noStrike">
                <a:solidFill>
                  <a:srgbClr val="ffffff"/>
                </a:solidFill>
                <a:latin typeface="Times New Roman"/>
              </a:rPr>
              <a:t>27</a:t>
            </a:r>
            <a:r>
              <a:rPr b="0" lang="ar-SA" sz="3200" spc="-1" strike="noStrike">
                <a:solidFill>
                  <a:srgbClr val="ffffff"/>
                </a:solidFill>
                <a:latin typeface="Times New Roman"/>
              </a:rPr>
              <a:t>دولة شاركت في الحرب، واستدعيت الدول المنهزمة فقط للتوقيع على المعاهدات،وهيمنت فيه الدول الأربع الكبرى(الو.م.أ:ولسون،فرنسا:كليمونصو، إنجلترا:لويد جورج،إيطاليا:أورلاندو</a:t>
            </a:r>
            <a:r>
              <a:rPr b="0" lang="en-US" sz="3200" spc="-1" strike="noStrike">
                <a:solidFill>
                  <a:srgbClr val="ffffff"/>
                </a:solidFill>
                <a:latin typeface="Times New Roman"/>
              </a:rPr>
              <a:t>).</a:t>
            </a:r>
            <a:br>
              <a:rPr sz="3200"/>
            </a:br>
            <a:r>
              <a:rPr b="0" lang="en-US" sz="3200" spc="-1" strike="noStrike">
                <a:solidFill>
                  <a:srgbClr val="ffffff"/>
                </a:solidFill>
                <a:latin typeface="Times New Roman"/>
              </a:rPr>
              <a:t>•</a:t>
            </a:r>
            <a:r>
              <a:rPr b="0" lang="ar-SA" sz="3200" spc="-1" strike="noStrike">
                <a:solidFill>
                  <a:srgbClr val="ffffff"/>
                </a:solidFill>
                <a:latin typeface="Times New Roman"/>
              </a:rPr>
              <a:t>فرضت على الدول المنهزمة توقيع المعاهدات</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325080"/>
            <a:ext cx="8229600" cy="613404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فرساي </a:t>
            </a:r>
            <a:br>
              <a:rPr sz="3200"/>
            </a:br>
            <a:r>
              <a:rPr b="1" lang="ar-SA" sz="3200" spc="-1" strike="noStrike">
                <a:solidFill>
                  <a:srgbClr val="000000"/>
                </a:solidFill>
                <a:latin typeface="Times New Roman"/>
              </a:rPr>
              <a:t>ألمانيا </a:t>
            </a:r>
            <a:br>
              <a:rPr sz="3200"/>
            </a:br>
            <a:r>
              <a:rPr b="1" lang="en-US" sz="3200" spc="-1" strike="noStrike">
                <a:solidFill>
                  <a:srgbClr val="000000"/>
                </a:solidFill>
                <a:latin typeface="Times New Roman"/>
              </a:rPr>
              <a:t>28</a:t>
            </a:r>
            <a:r>
              <a:rPr b="1" lang="ar-SA" sz="3200" spc="-1" strike="noStrike">
                <a:solidFill>
                  <a:srgbClr val="000000"/>
                </a:solidFill>
                <a:latin typeface="Times New Roman"/>
              </a:rPr>
              <a:t>يونيو</a:t>
            </a:r>
            <a:r>
              <a:rPr b="1" lang="ar-SA" sz="3200" spc="-1" strike="noStrike">
                <a:solidFill>
                  <a:srgbClr val="000000"/>
                </a:solidFill>
                <a:latin typeface="Times New Roman"/>
              </a:rPr>
              <a:t>1919</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تضمنت تحميل ألمانيا مسؤولية حدوث الحرب وإلزامها بأداء التعويضات،وتحديد عدد جيشها،وإلغاء الخدمة العسكرية،وتجريد منطقة الراين من السلاح،وإرجاع الألزاس واللورين إلى فرنسا،ووضع منطقة السار تحت إشراف عصبة الأمم،ونيل فرنسا على مدى</a:t>
            </a:r>
            <a:r>
              <a:rPr b="0" lang="ar-SA" sz="3200" spc="-1" strike="noStrike">
                <a:solidFill>
                  <a:srgbClr val="ffffff"/>
                </a:solidFill>
                <a:latin typeface="Times New Roman"/>
              </a:rPr>
              <a:t>15</a:t>
            </a:r>
            <a:r>
              <a:rPr b="0" lang="ar-SA" sz="3200" spc="-1" strike="noStrike">
                <a:solidFill>
                  <a:srgbClr val="ffffff"/>
                </a:solidFill>
                <a:latin typeface="Times New Roman"/>
              </a:rPr>
              <a:t>سنة إلى غاية إجراء الاستفتاء الفحم المستخرج كتعويض عن الخسائر،وضم شمال شلزفيك للدانمارك بعد إجراء الاستفتاء،وتأسيس بولونيا وإعطائها ممرا على البلطيق،وتجريد ألمانيا من المستعمرات ووضعها تحت انتداب فرنسا(القسم الأعظم م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398520"/>
            <a:ext cx="8229600" cy="606096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طوغو والكاميرون وجنوب غرب إفريقيا)واليابان(الجزر الألمانية بالمحيط الهادي)واستراليا (غينيا الجديدة).</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سان جرمان </a:t>
            </a:r>
            <a:br>
              <a:rPr sz="3200"/>
            </a:br>
            <a:r>
              <a:rPr b="1" lang="ar-SA" sz="3200" spc="-1" strike="noStrike">
                <a:solidFill>
                  <a:srgbClr val="000000"/>
                </a:solidFill>
                <a:latin typeface="Times New Roman"/>
              </a:rPr>
              <a:t>النمسا </a:t>
            </a:r>
            <a:br>
              <a:rPr sz="3200"/>
            </a:br>
            <a:r>
              <a:rPr b="1" lang="ar-SA" sz="3200" spc="-1" strike="noStrike">
                <a:solidFill>
                  <a:srgbClr val="000000"/>
                </a:solidFill>
                <a:latin typeface="Times New Roman"/>
              </a:rPr>
              <a:t>10</a:t>
            </a:r>
            <a:r>
              <a:rPr b="1" lang="ar-SA" sz="3200" spc="-1" strike="noStrike">
                <a:solidFill>
                  <a:srgbClr val="000000"/>
                </a:solidFill>
                <a:latin typeface="Times New Roman"/>
              </a:rPr>
              <a:t>سبتمبر</a:t>
            </a:r>
            <a:r>
              <a:rPr b="1" lang="ar-SA" sz="3200" spc="-1" strike="noStrike">
                <a:solidFill>
                  <a:srgbClr val="000000"/>
                </a:solidFill>
                <a:latin typeface="Times New Roman"/>
              </a:rPr>
              <a:t>1919</a:t>
            </a:r>
            <a:r>
              <a:rPr b="1" lang="ar-SA" sz="3200" spc="-1" strike="noStrike">
                <a:solidFill>
                  <a:srgbClr val="000000"/>
                </a:solidFill>
                <a:latin typeface="Times New Roman"/>
              </a:rPr>
              <a:t> </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ff"/>
                </a:solidFill>
                <a:latin typeface="Times New Roman"/>
              </a:rPr>
              <a:t>     اقتطاع بعض مناطقها لصالح الدول المجاورة،وتحديد عدد قواتها العسكر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946080"/>
            <a:ext cx="8229600" cy="54403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تريانون </a:t>
            </a:r>
            <a:br>
              <a:rPr sz="3200"/>
            </a:br>
            <a:r>
              <a:rPr b="1" lang="ar-SA" sz="3200" spc="-1" strike="noStrike">
                <a:solidFill>
                  <a:srgbClr val="000000"/>
                </a:solidFill>
                <a:latin typeface="Times New Roman"/>
              </a:rPr>
              <a:t>المجر </a:t>
            </a:r>
            <a:br>
              <a:rPr sz="3200"/>
            </a:br>
            <a:r>
              <a:rPr b="1" lang="ar-SA" sz="3200" spc="-1" strike="noStrike">
                <a:solidFill>
                  <a:srgbClr val="000000"/>
                </a:solidFill>
                <a:latin typeface="Times New Roman"/>
              </a:rPr>
              <a:t>4</a:t>
            </a:r>
            <a:r>
              <a:rPr b="1" lang="ar-SA" sz="3200" spc="-1" strike="noStrike">
                <a:solidFill>
                  <a:srgbClr val="000000"/>
                </a:solidFill>
                <a:latin typeface="Times New Roman"/>
              </a:rPr>
              <a:t>يونيو</a:t>
            </a:r>
            <a:r>
              <a:rPr b="1" lang="ar-SA" sz="3200" spc="-1" strike="noStrike">
                <a:solidFill>
                  <a:srgbClr val="000000"/>
                </a:solidFill>
                <a:latin typeface="Times New Roman"/>
              </a:rPr>
              <a:t>1920</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اقتطاع مناطق من أراضيها لصالح الدول المجاورة،وتحديد عدد الجنود</a:t>
            </a:r>
            <a:r>
              <a:rPr b="0" lang="en-US" sz="3200" spc="-1" strike="noStrike">
                <a:solidFill>
                  <a:srgbClr val="ffffff"/>
                </a:solidFill>
                <a:latin typeface="Times New Roman"/>
              </a:rPr>
              <a:t>. </a:t>
            </a:r>
            <a:br>
              <a:rPr sz="3200"/>
            </a:br>
            <a:endParaRPr b="0" lang="en-US" sz="3200" spc="-1" strike="noStrike">
              <a:solidFill>
                <a:srgbClr val="ffffff"/>
              </a:solidFill>
              <a:latin typeface="Times New Roman"/>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نويي </a:t>
            </a:r>
            <a:br>
              <a:rPr sz="3200"/>
            </a:br>
            <a:r>
              <a:rPr b="1" lang="ar-SA" sz="3200" spc="-1" strike="noStrike">
                <a:solidFill>
                  <a:srgbClr val="000000"/>
                </a:solidFill>
                <a:latin typeface="Times New Roman"/>
              </a:rPr>
              <a:t>بلغاريا </a:t>
            </a:r>
            <a:br>
              <a:rPr sz="3200"/>
            </a:br>
            <a:r>
              <a:rPr b="1" lang="ar-SA" sz="3200" spc="-1" strike="noStrike">
                <a:solidFill>
                  <a:srgbClr val="000000"/>
                </a:solidFill>
                <a:latin typeface="Times New Roman"/>
              </a:rPr>
              <a:t>27</a:t>
            </a:r>
            <a:r>
              <a:rPr b="1" lang="ar-SA" sz="3200" spc="-1" strike="noStrike">
                <a:solidFill>
                  <a:srgbClr val="000000"/>
                </a:solidFill>
                <a:latin typeface="Times New Roman"/>
              </a:rPr>
              <a:t>نوفمبر</a:t>
            </a:r>
            <a:r>
              <a:rPr b="1" lang="ar-SA" sz="3200" spc="-1" strike="noStrike">
                <a:solidFill>
                  <a:srgbClr val="000000"/>
                </a:solidFill>
                <a:latin typeface="Times New Roman"/>
              </a:rPr>
              <a:t>1919</a:t>
            </a:r>
            <a:r>
              <a:rPr b="1" lang="ar-SA" sz="3200" spc="-1" strike="noStrike">
                <a:solidFill>
                  <a:srgbClr val="000000"/>
                </a:solidFill>
                <a:latin typeface="Times New Roman"/>
              </a:rPr>
              <a:t> </a:t>
            </a:r>
            <a:br>
              <a:rPr sz="3200"/>
            </a:br>
            <a:r>
              <a:rPr b="0" lang="ar-SA" sz="3200" spc="-1" strike="noStrike">
                <a:solidFill>
                  <a:srgbClr val="ffffff"/>
                </a:solidFill>
                <a:latin typeface="Times New Roman"/>
              </a:rPr>
              <a:t>     اقتطاع بعض مناطقها لصالح الدول المجاورة،وتحديد عدد الجنود</a:t>
            </a:r>
            <a:r>
              <a:rPr b="0" lang="en-US" sz="3200" spc="-1" strike="noStrike">
                <a:solidFill>
                  <a:srgbClr val="ffffff"/>
                </a:solidFill>
                <a:latin typeface="Times New Roman"/>
              </a:rPr>
              <a:t>. </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57200" y="471600"/>
            <a:ext cx="8229600" cy="5659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عاهدة سيفر </a:t>
            </a:r>
            <a:br>
              <a:rPr sz="3200"/>
            </a:br>
            <a:r>
              <a:rPr b="1" lang="ar-SA" sz="3200" spc="-1" strike="noStrike">
                <a:solidFill>
                  <a:srgbClr val="000000"/>
                </a:solidFill>
                <a:latin typeface="Times New Roman"/>
              </a:rPr>
              <a:t>تركيا العثمانية </a:t>
            </a:r>
            <a:br>
              <a:rPr sz="3200"/>
            </a:br>
            <a:r>
              <a:rPr b="1" lang="ar-SA" sz="3200" spc="-1" strike="noStrike">
                <a:solidFill>
                  <a:srgbClr val="000000"/>
                </a:solidFill>
                <a:latin typeface="Times New Roman"/>
              </a:rPr>
              <a:t>11</a:t>
            </a:r>
            <a:r>
              <a:rPr b="1" lang="ar-SA" sz="3200" spc="-1" strike="noStrike">
                <a:solidFill>
                  <a:srgbClr val="000000"/>
                </a:solidFill>
                <a:latin typeface="Times New Roman"/>
              </a:rPr>
              <a:t>أغسطس</a:t>
            </a:r>
            <a:r>
              <a:rPr b="1" lang="ar-SA" sz="3200" spc="-1" strike="noStrike">
                <a:solidFill>
                  <a:srgbClr val="000000"/>
                </a:solidFill>
                <a:latin typeface="Times New Roman"/>
              </a:rPr>
              <a:t>1920</a:t>
            </a:r>
            <a:r>
              <a:rPr b="0" lang="ar-SA" sz="3200" spc="-1" strike="noStrike">
                <a:solidFill>
                  <a:srgbClr val="000000"/>
                </a:solidFill>
                <a:latin typeface="Times New Roman"/>
              </a:rPr>
              <a:t> </a:t>
            </a:r>
            <a:br>
              <a:rPr sz="3200"/>
            </a:br>
            <a:r>
              <a:rPr b="0" lang="ar-SA" sz="3200" spc="-1" strike="noStrike">
                <a:solidFill>
                  <a:srgbClr val="ffffff"/>
                </a:solidFill>
                <a:latin typeface="Times New Roman"/>
              </a:rPr>
              <a:t>     التنازل عن مناطقها العربية لصالح فرنسا وإنجلترا،ومناطقها بأوربا لصالح الدول المجاورة،وضع مضيقي الدردنيل والبوسفور تحت الرقابة الدول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
          <p:cNvSpPr txBox="1"/>
          <p:nvPr/>
        </p:nvSpPr>
        <p:spPr>
          <a:xfrm>
            <a:off x="457200" y="507600"/>
            <a:ext cx="8229600" cy="6024600"/>
          </a:xfrm>
          <a:prstGeom prst="rect">
            <a:avLst/>
          </a:prstGeom>
          <a:noFill/>
          <a:ln w="0">
            <a:noFill/>
          </a:ln>
        </p:spPr>
        <p:txBody>
          <a:bodyPr anchor="t">
            <a:normAutofit fontScale="89000"/>
          </a:bodyPr>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فرنسي الرّوسي القيصري </a:t>
            </a:r>
            <a:r>
              <a:rPr b="0" lang="ar-SA" sz="2400" spc="-1" strike="noStrike">
                <a:solidFill>
                  <a:srgbClr val="ff0000"/>
                </a:solidFill>
                <a:latin typeface="Times New Roman"/>
                <a:ea typeface="Akhbar MT"/>
              </a:rPr>
              <a:t>188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وقد تطوّر هذا الوفاق عام </a:t>
            </a:r>
            <a:r>
              <a:rPr b="0" lang="ar-SA" sz="2400" spc="-1" strike="noStrike">
                <a:solidFill>
                  <a:srgbClr val="ff0000"/>
                </a:solidFill>
                <a:latin typeface="Times New Roman"/>
                <a:ea typeface="Akhbar MT"/>
              </a:rPr>
              <a:t>188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عندما اتّفقت الدّولتان على اتّفاقيّة بينهما يتمّ بموجبها:</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أن تزوّد فرنسا دولة روسيا القيصريّة بالأسلحة الفرنسيّة. </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وتساعدها في تطوير حركة المواصلات فيها, خاصّة في مشروعات مدّ السّكك الحديديّة.</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بالفعل عقدت الدّولتان اتفاقية بينما عام </a:t>
            </a:r>
            <a:r>
              <a:rPr b="0" lang="ar-SA" sz="2400" spc="-1" strike="noStrike">
                <a:solidFill>
                  <a:srgbClr val="ff0000"/>
                </a:solidFill>
                <a:latin typeface="Times New Roman"/>
                <a:ea typeface="Akhbar MT"/>
              </a:rPr>
              <a:t>189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ضمنت لروسيا القيصريّة ما أرادت مقابل أن تقف روسيا القيصريّة إلى جانب فرنسا في حال قيام ألمانيا بالاعتداء على فرنسا, وأن يتمّ تبادل الرأي والمشورة بين الدّولتين في حال تعرّض أيّ منهما لأي خطر خارجيّ.</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ي البريطاني الياباني عام </a:t>
            </a:r>
            <a:r>
              <a:rPr b="0" lang="ar-SA" sz="2400" spc="-1" strike="noStrike">
                <a:solidFill>
                  <a:srgbClr val="ff0000"/>
                </a:solidFill>
                <a:latin typeface="Times New Roman"/>
                <a:ea typeface="Akhbar MT"/>
              </a:rPr>
              <a:t>190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هو تقارب بريطاني ياباني كان موجّهاً في المقام الأوّل ضدّ روسيا القيصريّة ذات الخلافات السيّاسيّة والعسكريّة مع اليابان, وذات الخلافات السّياسيّة مع بريطانيا خاصّة في المناطق الإيرانيّة</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ي البريطاني الفرنسي عام </a:t>
            </a:r>
            <a:r>
              <a:rPr b="0" lang="ar-SA" sz="2400" spc="-1" strike="noStrike">
                <a:solidFill>
                  <a:srgbClr val="ff0000"/>
                </a:solidFill>
                <a:latin typeface="Times New Roman"/>
                <a:ea typeface="Akhbar MT"/>
              </a:rPr>
              <a:t>1904</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لتسوية مابين الدّولتين من خلافات.</a:t>
            </a: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وفاق الودّ البريطاني الرّوسي عام </a:t>
            </a:r>
            <a:r>
              <a:rPr b="0" lang="ar-SA" sz="2400" spc="-1" strike="noStrike">
                <a:solidFill>
                  <a:srgbClr val="ff0000"/>
                </a:solidFill>
                <a:latin typeface="Times New Roman"/>
                <a:ea typeface="Akhbar MT"/>
              </a:rPr>
              <a:t>1907</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لقيام تفاهم بين الدّولتين حول تقسيم مناطق النّفوذ حول إيران.</a:t>
            </a:r>
            <a:endParaRPr b="0" lang="en-US" sz="2400" spc="-1" strike="noStrike">
              <a:solidFill>
                <a:srgbClr val="ffffff"/>
              </a:solidFill>
              <a:latin typeface="Times New Roman"/>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eec94"/>
                </a:solidFill>
                <a:latin typeface="Times New Roman"/>
              </a:rPr>
              <a:t>المراجع</a:t>
            </a:r>
            <a:endParaRPr b="1" lang="en-US" sz="4400" spc="-1" strike="noStrike">
              <a:solidFill>
                <a:srgbClr val="feec94"/>
              </a:solidFill>
              <a:latin typeface="Times New Roman"/>
            </a:endParaRPr>
          </a:p>
        </p:txBody>
      </p:sp>
      <p:sp>
        <p:nvSpPr>
          <p:cNvPr id="570"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1</a:t>
            </a:r>
            <a:r>
              <a:rPr b="0" lang="ar-SA" sz="3200" spc="-1" strike="noStrike">
                <a:solidFill>
                  <a:srgbClr val="ffffff"/>
                </a:solidFill>
                <a:latin typeface="Times New Roman"/>
              </a:rPr>
              <a:t>- تاريخ الأمريكيتين, عبدالفتاح حسن أبوعلية</a:t>
            </a:r>
            <a:r>
              <a:rPr b="0" lang="ar-SA" sz="3200" spc="-1" strike="noStrike">
                <a:solidFill>
                  <a:srgbClr val="ffffff"/>
                </a:solidFill>
                <a:latin typeface="Times New Roman"/>
                <a:ea typeface="Traditional Arabic"/>
              </a:rPr>
              <a:t>, الرياض, </a:t>
            </a:r>
            <a:r>
              <a:rPr b="0" lang="ar-SA" sz="3200" spc="-1" strike="noStrike">
                <a:solidFill>
                  <a:srgbClr val="ffffff"/>
                </a:solidFill>
                <a:latin typeface="Times New Roman"/>
              </a:rPr>
              <a:t>1425</a:t>
            </a:r>
            <a:r>
              <a:rPr b="0" lang="ar-SA" sz="3200" spc="-1" strike="noStrike">
                <a:solidFill>
                  <a:srgbClr val="ffffff"/>
                </a:solidFill>
                <a:latin typeface="Times New Roman"/>
                <a:cs typeface="Traditional Arabic"/>
              </a:rPr>
              <a:t>ﻫ/</a:t>
            </a:r>
            <a:r>
              <a:rPr b="0" lang="ar-SA" sz="3200" spc="-1" strike="noStrike">
                <a:solidFill>
                  <a:srgbClr val="ffffff"/>
                </a:solidFill>
                <a:latin typeface="Times New Roman"/>
                <a:ea typeface="Traditional Arabic"/>
              </a:rPr>
              <a:t>2004</a:t>
            </a:r>
            <a:r>
              <a:rPr b="0" lang="ar-SA" sz="3200" spc="-1" strike="noStrike">
                <a:solidFill>
                  <a:srgbClr val="ffffff"/>
                </a:solidFill>
                <a:latin typeface="Times New Roman"/>
                <a:cs typeface="Traditional Arabic"/>
              </a:rPr>
              <a:t>م</a:t>
            </a:r>
            <a:r>
              <a:rPr b="0" lang="ar-SA" sz="3200" spc="-1" strike="noStrike">
                <a:solidFill>
                  <a:srgbClr val="ffffff"/>
                </a:solidFill>
                <a:latin typeface="Times New Roman"/>
              </a:rPr>
              <a:t>,</a:t>
            </a:r>
            <a:r>
              <a:rPr b="0" lang="ar-SA" sz="3200" spc="-1" strike="noStrike">
                <a:solidFill>
                  <a:srgbClr val="ffffff"/>
                </a:solidFill>
                <a:latin typeface="Times New Roman"/>
                <a:ea typeface="Traditional Arabic"/>
              </a:rPr>
              <a:t> دار المريخ.</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2</a:t>
            </a:r>
            <a:r>
              <a:rPr b="0" lang="ar-SA" sz="3200" spc="-1" strike="noStrike">
                <a:solidFill>
                  <a:srgbClr val="ffffff"/>
                </a:solidFill>
                <a:latin typeface="Times New Roman"/>
                <a:ea typeface="Traditional Arabic"/>
              </a:rPr>
              <a:t>- تـاريخ الولايـات المتحـدة الأمريكيـة الحديث, عبدالعزيز سليمان و عبدالمجيد النعنعي, بيروت, </a:t>
            </a:r>
            <a:r>
              <a:rPr b="0" lang="ar-SA" sz="3200" spc="-1" strike="noStrike">
                <a:solidFill>
                  <a:srgbClr val="ffffff"/>
                </a:solidFill>
                <a:latin typeface="Times New Roman"/>
                <a:ea typeface="Traditional Arabic"/>
              </a:rPr>
              <a:t>1973</a:t>
            </a:r>
            <a:r>
              <a:rPr b="0" lang="ar-SA" sz="3200" spc="-1" strike="noStrike">
                <a:solidFill>
                  <a:srgbClr val="ffffff"/>
                </a:solidFill>
                <a:latin typeface="Times New Roman"/>
                <a:cs typeface="Traditional Arabic"/>
              </a:rPr>
              <a:t>م, دار النهضة العربية.</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3</a:t>
            </a:r>
            <a:r>
              <a:rPr b="0" lang="ar-SA" sz="3200" spc="-1" strike="noStrike">
                <a:solidFill>
                  <a:srgbClr val="ffffff"/>
                </a:solidFill>
                <a:latin typeface="Times New Roman"/>
                <a:ea typeface="Traditional Arabic"/>
              </a:rPr>
              <a:t>- موسوعة ويكيبديا  </a:t>
            </a:r>
            <a:r>
              <a:rPr b="0" lang="en-US" sz="3200" spc="-1" strike="noStrike" u="sng">
                <a:solidFill>
                  <a:srgbClr val="ffffcc"/>
                </a:solidFill>
                <a:uFillTx/>
                <a:latin typeface="Times New Roman"/>
                <a:ea typeface="Traditional Arabic"/>
                <a:hlinkClick r:id="rId1"/>
              </a:rPr>
              <a:t>http://ar.wikipedia.org</a:t>
            </a:r>
            <a:r>
              <a:rPr b="0" lang="ar-SA" sz="3200" spc="-1" strike="noStrike">
                <a:solidFill>
                  <a:srgbClr val="ffffff"/>
                </a:solidFill>
                <a:latin typeface="Times New Roman"/>
                <a:ea typeface="Traditional Arabic"/>
              </a:rPr>
              <a:t>.</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4</a:t>
            </a:r>
            <a:r>
              <a:rPr b="0" lang="ar-SA" sz="3200" spc="-1" strike="noStrike">
                <a:solidFill>
                  <a:srgbClr val="ffffff"/>
                </a:solidFill>
                <a:latin typeface="Times New Roman"/>
                <a:ea typeface="Traditional Arabic"/>
              </a:rPr>
              <a:t>- موسوعة نبع الجزائر </a:t>
            </a:r>
            <a:r>
              <a:rPr b="0" lang="ar-SA" sz="3200" spc="-1" strike="noStrike" u="sng">
                <a:solidFill>
                  <a:srgbClr val="ffff00"/>
                </a:solidFill>
                <a:uFillTx/>
                <a:latin typeface="Times New Roman"/>
                <a:ea typeface="Traditional Arabic"/>
              </a:rPr>
              <a:t> </a:t>
            </a:r>
            <a:r>
              <a:rPr b="0" lang="en-US" sz="3200" spc="-1" strike="noStrike" u="sng">
                <a:solidFill>
                  <a:srgbClr val="ffffcc"/>
                </a:solidFill>
                <a:uFillTx/>
                <a:latin typeface="Times New Roman"/>
                <a:ea typeface="Traditional Arabic"/>
                <a:hlinkClick r:id="rId2"/>
              </a:rPr>
              <a:t>www.2algeria.com</a:t>
            </a:r>
            <a:r>
              <a:rPr b="0" lang="en-US" sz="3200" spc="-1" strike="noStrike" u="sng">
                <a:solidFill>
                  <a:srgbClr val="fff7d4"/>
                </a:solidFill>
                <a:uFillTx/>
                <a:latin typeface="Times New Roman"/>
                <a:ea typeface="Traditional Arabic"/>
              </a:rPr>
              <a:t> </a:t>
            </a:r>
            <a:r>
              <a:rPr b="0" lang="ar-SA" sz="3200" spc="-1" strike="noStrike" u="sng">
                <a:solidFill>
                  <a:srgbClr val="fff7d4"/>
                </a:solidFill>
                <a:uFillTx/>
                <a:latin typeface="Times New Roman"/>
                <a:ea typeface="Traditional Arabic"/>
              </a:rPr>
              <a:t> </a:t>
            </a:r>
            <a:r>
              <a:rPr b="0" lang="ar-SA" sz="3200" spc="-1" strike="noStrike">
                <a:solidFill>
                  <a:srgbClr val="fff7d4"/>
                </a:solidFill>
                <a:latin typeface="Times New Roman"/>
                <a:ea typeface="Traditional Arab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
          <p:cNvSpPr txBox="1"/>
          <p:nvPr/>
        </p:nvSpPr>
        <p:spPr>
          <a:xfrm>
            <a:off x="457200" y="617040"/>
            <a:ext cx="8229600" cy="5659560"/>
          </a:xfrm>
          <a:prstGeom prst="rect">
            <a:avLst/>
          </a:prstGeom>
          <a:noFill/>
          <a:ln w="0">
            <a:noFill/>
          </a:ln>
        </p:spPr>
        <p:txBody>
          <a:bodyPr anchor="t">
            <a:normAutofit fontScale="79000"/>
          </a:bodyPr>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3</a:t>
            </a:r>
            <a:r>
              <a:rPr b="0" lang="ar-SA" sz="2800" spc="-1" strike="noStrike">
                <a:solidFill>
                  <a:srgbClr val="000000"/>
                </a:solidFill>
                <a:latin typeface="Times New Roman"/>
                <a:ea typeface="Akhbar MT"/>
              </a:rPr>
              <a:t>- نمو الحركات القوميّة في أوروبا:</a:t>
            </a:r>
            <a:endParaRPr b="0" lang="en-US" sz="28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حدث نموّ قومي في أوروبّا في القرن التّاسع عشر الميلادي, العصر الذي عرف بعصر القويّات في أوروبا, تلك القوميّات التي ترمي إلى تحرير أممها من سيطرة الدّول الأوروبيّة التي كانت تحكمها, أو التي كانت قد ضمّتها بالقوة إلى </a:t>
            </a:r>
            <a:r>
              <a:rPr b="0" lang="ar-SA" sz="2800" spc="-1" strike="noStrike">
                <a:solidFill>
                  <a:srgbClr val="ffff00"/>
                </a:solidFill>
                <a:latin typeface="Times New Roman"/>
                <a:cs typeface="Akhbar MT"/>
              </a:rPr>
              <a:t>سيادتها</a:t>
            </a:r>
            <a:r>
              <a:rPr b="0" lang="ar-SA" sz="2400" spc="-1" strike="noStrike">
                <a:solidFill>
                  <a:srgbClr val="ffff00"/>
                </a:solidFill>
                <a:latin typeface="Times New Roman"/>
                <a:ea typeface="Akhbar MT"/>
              </a:rPr>
              <a:t> ونفوذها. ونذكر على سبيل المثال لا الحصر: قيام الجامعة السُّلافيّة, والجامعة الجرمانيّة, وجمعيّة إيطاليا الفتاة وغيره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khbar MT"/>
              </a:rPr>
              <a:t>4</a:t>
            </a:r>
            <a:r>
              <a:rPr b="0" lang="ar-SA" sz="2800" spc="-1" strike="noStrike">
                <a:solidFill>
                  <a:srgbClr val="000000"/>
                </a:solidFill>
                <a:latin typeface="Times New Roman"/>
                <a:ea typeface="Akhbar MT"/>
              </a:rPr>
              <a:t>- قيام الأزمات الدّوليّة:</a:t>
            </a:r>
            <a:endParaRPr b="0" lang="en-US" sz="28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قامت أزمات دوليّة على مستوى مساحة العالم, نذكر منها: </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أ-   الأزمة المراكشيّة,حين خطّطت فرنسا لاحتلال المغرب الأقصى ( مراكش ).</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ب- أزمة البلقان بعد ضمّ النّمسا لإقليمي البوسنة و الهرسك عام </a:t>
            </a:r>
            <a:r>
              <a:rPr b="0" lang="ar-SA" sz="2400" spc="-1" strike="noStrike">
                <a:solidFill>
                  <a:srgbClr val="ff0000"/>
                </a:solidFill>
                <a:latin typeface="Times New Roman"/>
                <a:ea typeface="Akhbar MT"/>
              </a:rPr>
              <a:t>1908</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قد احتجّت كلّ من صربيا وروسيا القيصريّة التي تدعم الصّرب على النّمسا. وقامت ألمانيا ودعمت موقف النّمسا, ممّا أدّى إلى قيام جوّ ملبّد بالغيوم السّياسيّة وغيوم الحرب في شبه جزيرة البلقان في أوروبّا الشّرق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جـ   أزمة مقدونيا, وهي الحرب التي نشبت بين الدّولة العثمانيّة من جهة وبين كلّ من اليونان وبلغاري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
          <p:cNvSpPr txBox="1"/>
          <p:nvPr/>
        </p:nvSpPr>
        <p:spPr>
          <a:xfrm>
            <a:off x="457200" y="288720"/>
            <a:ext cx="8229600" cy="609732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صربيا حول مسألة سلخ مقدونيا عن الدّولة العثمانيّة واقتسامها بين كلٍّ من اليونان وبلغاريا وصربيا. وبعد انهزام الدّولة العثمانيّة , اختلفت الدّول البلقانيّة فيما بينهما حول مسألة تقسيم التّركة, مقدونيا. فقام صراع بلقاني جديد بين النّمسا و الصّرب و روسيا  وغيره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د- أزمة طرابلس الغرب, حيث استغلّت إيطاليا انشغال الدّولة العثمانيّة في حروبها في البلقان من جهة وضعفها من جهة أخرى, قامت فأعلنت الحرب عليها في طرابلس الغرب عام </a:t>
            </a:r>
            <a:r>
              <a:rPr b="0" lang="ar-SA" sz="2400" spc="-1" strike="noStrike">
                <a:solidFill>
                  <a:srgbClr val="ff0000"/>
                </a:solidFill>
                <a:latin typeface="Times New Roman"/>
                <a:ea typeface="Akhbar MT"/>
              </a:rPr>
              <a:t>1911</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واحتلّت ليبيا منها عام </a:t>
            </a:r>
            <a:r>
              <a:rPr b="0" lang="ar-SA" sz="2400" spc="-1" strike="noStrike">
                <a:solidFill>
                  <a:srgbClr val="ff0000"/>
                </a:solidFill>
                <a:latin typeface="Times New Roman"/>
                <a:ea typeface="Akhbar MT"/>
              </a:rPr>
              <a:t>1912</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بعد أن كانت قد أمنت سكوت كلّ من فرنسا و بريطانيا وذلك في اتّفاق الجزيرة الخضراء عام </a:t>
            </a:r>
            <a:r>
              <a:rPr b="0" lang="ar-SA" sz="2400" spc="-1" strike="noStrike">
                <a:solidFill>
                  <a:srgbClr val="ff0000"/>
                </a:solidFill>
                <a:latin typeface="Times New Roman"/>
                <a:ea typeface="Akhbar MT"/>
              </a:rPr>
              <a:t>1906</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khbar MT"/>
              </a:rPr>
              <a:t>السّبب الرّئيسيّ للحرب العالميّة الأولى:</a:t>
            </a:r>
            <a:endParaRPr b="0" lang="en-US" sz="2800" spc="-1" strike="noStrike">
              <a:solidFill>
                <a:srgbClr val="ffffff"/>
              </a:solidFill>
              <a:latin typeface="Times New Roman"/>
            </a:endParaRPr>
          </a:p>
          <a:p>
            <a:pPr marL="270720" indent="-270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ea typeface="Akhbar MT"/>
              </a:rPr>
              <a:t>     إنّ السّبب المباشر للحرب العالميّة الأولى يعود إلى ازدياد موجة العداء السُّلافي في البلقان, فأنشأ السّلافيّون الجمعيّات السّريّة للعمل ضدّ النّمسا بمساعدة كلٍّ من الصِّرب و روسيا القيصريّة. وقد اغتال طالب سُلافي من البوسنة اسمه </a:t>
            </a:r>
            <a:r>
              <a:rPr b="0" lang="ar-SA" sz="2800" spc="-1" strike="noStrike">
                <a:solidFill>
                  <a:srgbClr val="ff0000"/>
                </a:solidFill>
                <a:latin typeface="Times New Roman"/>
                <a:cs typeface="Akhbar MT"/>
              </a:rPr>
              <a:t>غفريلو برنسيب </a:t>
            </a:r>
            <a:r>
              <a:rPr b="0" lang="en-US" sz="2800" spc="-1" strike="noStrike">
                <a:solidFill>
                  <a:srgbClr val="ff0000"/>
                </a:solidFill>
                <a:latin typeface="Times New Roman"/>
                <a:ea typeface="Akhbar MT"/>
              </a:rPr>
              <a:t>Gavrilo Princip</a:t>
            </a:r>
            <a:r>
              <a:rPr b="0" lang="ar-SA" sz="2800" spc="-1" strike="noStrike">
                <a:solidFill>
                  <a:srgbClr val="ff0000"/>
                </a:solidFill>
                <a:latin typeface="Times New Roman"/>
                <a:ea typeface="Akhbar MT"/>
              </a:rPr>
              <a:t> </a:t>
            </a:r>
            <a:r>
              <a:rPr b="0" lang="ar-SA" sz="2800" spc="-1" strike="noStrike">
                <a:solidFill>
                  <a:srgbClr val="ffff00"/>
                </a:solidFill>
                <a:latin typeface="Times New Roman"/>
                <a:cs typeface="Akhbar MT"/>
              </a:rPr>
              <a:t>الأرشيدوق فرانتز فرديناد ولي عهد امبراطور النّمسا في سراييفو عاصمة البوسنة في </a:t>
            </a:r>
            <a:r>
              <a:rPr b="0" lang="ar-SA" sz="2800" spc="-1" strike="noStrike">
                <a:solidFill>
                  <a:srgbClr val="ffff00"/>
                </a:solidFill>
                <a:latin typeface="Times New Roman"/>
                <a:ea typeface="Akhbar MT"/>
              </a:rPr>
              <a:t>28</a:t>
            </a:r>
            <a:r>
              <a:rPr b="0" lang="ar-SA" sz="2800" spc="-1" strike="noStrike">
                <a:solidFill>
                  <a:srgbClr val="ffff00"/>
                </a:solidFill>
                <a:latin typeface="Times New Roman"/>
                <a:ea typeface="Akhbar MT"/>
              </a:rPr>
              <a:t> يونيو عام </a:t>
            </a:r>
            <a:r>
              <a:rPr b="0" lang="ar-SA" sz="2800" spc="-1" strike="noStrike">
                <a:solidFill>
                  <a:srgbClr val="ff0000"/>
                </a:solidFill>
                <a:latin typeface="Times New Roman"/>
                <a:ea typeface="Akhbar MT"/>
              </a:rPr>
              <a:t>1914</a:t>
            </a:r>
            <a:r>
              <a:rPr b="0" lang="ar-SA" sz="2800" spc="-1" strike="noStrike">
                <a:solidFill>
                  <a:srgbClr val="ff0000"/>
                </a:solidFill>
                <a:latin typeface="Times New Roman"/>
                <a:cs typeface="Akhbar MT"/>
              </a:rPr>
              <a:t>م</a:t>
            </a:r>
            <a:r>
              <a:rPr b="0" lang="ar-SA" sz="2800" spc="-1" strike="noStrike">
                <a:solidFill>
                  <a:srgbClr val="ffff00"/>
                </a:solidFill>
                <a:latin typeface="Times New Roman"/>
                <a:ea typeface="Akhbar MT"/>
              </a:rPr>
              <a:t>, فكانت الشّرارة الأولى لاندلاع حرب عالميّة كانت الأولى من نوعها في العال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398160"/>
            <a:ext cx="8229600" cy="5732280"/>
          </a:xfrm>
          <a:prstGeom prst="rect">
            <a:avLst/>
          </a:prstGeom>
          <a:noFill/>
          <a:ln w="0">
            <a:noFill/>
          </a:ln>
        </p:spPr>
        <p:txBody>
          <a:bodyPr anchor="t">
            <a:normAutofit fontScale="80000"/>
          </a:bodyPr>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1" lang="ar-SA" sz="2800" spc="-1" strike="noStrike">
                <a:solidFill>
                  <a:srgbClr val="000000"/>
                </a:solidFill>
                <a:latin typeface="Times New Roman"/>
                <a:cs typeface="Akhbar MT"/>
              </a:rPr>
              <a:t>العزلة الأمريكيّة ومبدأ مونرو:</a:t>
            </a:r>
            <a:endParaRPr b="0" lang="en-US" sz="28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تمسّكت الولايات المتّحدة بمبدأها السّياسي وهو مبدأ العزلة الذي تمثّله رسمياً في مبدأ الرّئيس مونرو (( وهو مشروع مكمل لما بدأه جورج واشنطن الرّئيس الأمريكي الأوّل الذي وضع أساس هذه العزلة في إعلان الحياد عام </a:t>
            </a:r>
            <a:r>
              <a:rPr b="0" lang="ar-SA" sz="2400" spc="-1" strike="noStrike">
                <a:solidFill>
                  <a:srgbClr val="ff0000"/>
                </a:solidFill>
                <a:latin typeface="Times New Roman"/>
                <a:ea typeface="Akhbar MT"/>
              </a:rPr>
              <a:t>1793</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فجاء مونرو الذي بلور روح الاستقلال لدى السكان المقيمين في الولايات المتحدة الأمريكية وأصبح لديهم إحساس كامل بأنّ قارّة أمريكا للأمريكييّن                 </a:t>
            </a:r>
            <a:r>
              <a:rPr b="0" lang="en-US" sz="2400" spc="-1" strike="noStrike">
                <a:solidFill>
                  <a:srgbClr val="ffff00"/>
                </a:solidFill>
                <a:latin typeface="Times New Roman"/>
                <a:ea typeface="Akhbar MT"/>
              </a:rPr>
              <a:t>America For Americans</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من هذا المبـدأ انطلقت الولايات المتحـدة الأمريكيـة في فتح باب دبـلوماسيتهـا على دول أمريكـا اللا تينية في قارة أمريكا الجنوبية و الوسطى من جهة وعلى فتح باب دبلوماسيتها على الدول الأوروبية ذات العلاقة والاتصال بدول أمريكا الجنوبية و الوسطى من جهة ثان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هذا يعني أنّ الولايات المتحدة الأمريكية ظلت على علاقات مع دول أوروبا لكنها اختارت لنفسها مبدأ الدبلوماسيّة المستقلّة  غير المتأثرة وغير المفروضة. ويعدّ هذا برهاناً على استقلال القرار الأمريكي الذي يعدّ أمراً ضروريّاً ليلتقي مع الظروف السّياسيّة العامّة التي أعقبت استقلال الولايات المتّحدة الأمريك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ما مبدأ مونرو أو مبدأ عزلة الولايات المتّحدة الأمريكيّة إلا مرحلة تاريخيّة من مراحل البناء الدّاخلي والاقتصاديّ الضّروريّان لنمو الأمّة الأمريكية الجديدة في إطار وحدتها الجغرافيّة وفي حدود دائرتها السّياسيّة والإقليميّة.</a:t>
            </a:r>
            <a:endParaRPr b="0" lang="en-US" sz="2400" spc="-1" strike="noStrike">
              <a:solidFill>
                <a:srgbClr val="ffffff"/>
              </a:solidFill>
              <a:latin typeface="Times New Roman"/>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361440"/>
            <a:ext cx="8229600" cy="576900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a:t>
            </a:r>
            <a:r>
              <a:rPr b="0" lang="ar-SA" sz="2400" spc="-1" strike="noStrike">
                <a:solidFill>
                  <a:srgbClr val="ffffff"/>
                </a:solidFill>
                <a:latin typeface="Times New Roman"/>
                <a:ea typeface="Akhbar MT"/>
              </a:rPr>
              <a:t>  </a:t>
            </a:r>
            <a:r>
              <a:rPr b="0" lang="ar-SA" sz="2400" spc="-1" strike="noStrike">
                <a:solidFill>
                  <a:srgbClr val="ffff00"/>
                </a:solidFill>
                <a:latin typeface="Times New Roman"/>
                <a:cs typeface="Akhbar MT"/>
              </a:rPr>
              <a:t>وعليه ركّز الأمريكيّون على مبدأ التّوسّع في الغرب وطرد القوى الأوروبيّة من هذه المناطق واستيطانها والاستقرار فيها على حساب الهنود الحمر القوّة المحليّة في المنطق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ما ركّز الأمريكيّون على مقاومة النفوذ الأسباني و الفرنسي.</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كانوا أكثر ميلاً تجاه النّفوذ البريطاني للأسباب التّال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1</a:t>
            </a:r>
            <a:r>
              <a:rPr b="0" lang="ar-SA" sz="2400" spc="-1" strike="noStrike">
                <a:solidFill>
                  <a:srgbClr val="ffff00"/>
                </a:solidFill>
                <a:latin typeface="Times New Roman"/>
                <a:ea typeface="Akhbar MT"/>
              </a:rPr>
              <a:t>- لاعتماد الولايات المتحدة الأمريكية على القوة البحرية البريطانية المرابطة على سواحل العالم الجديد.</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2</a:t>
            </a:r>
            <a:r>
              <a:rPr b="0" lang="ar-SA" sz="2400" spc="-1" strike="noStrike">
                <a:solidFill>
                  <a:srgbClr val="ffff00"/>
                </a:solidFill>
                <a:latin typeface="Times New Roman"/>
                <a:ea typeface="Akhbar MT"/>
              </a:rPr>
              <a:t>- للعداء التّقليدي القائم بين بريطانيا وفرنسا . وكانت بريطانيا تركّز على على طرد الفرنسييّن من القارة الأمريكيّ بمساعدة بريطانيا.</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3</a:t>
            </a:r>
            <a:r>
              <a:rPr b="0" lang="ar-SA" sz="2400" spc="-1" strike="noStrike">
                <a:solidFill>
                  <a:srgbClr val="ffff00"/>
                </a:solidFill>
                <a:latin typeface="Times New Roman"/>
                <a:ea typeface="Akhbar MT"/>
              </a:rPr>
              <a:t>- تأييد بريطانيا لمبدأ مونرو ومساندتها للولايات المتحدة الأمريكية في موقفها تجاه الدّول الأوروبيّة التي تحاول التّدخّل في في شؤون القارّة الأمريكيّة بخاصّة شؤون دول أمريكا اللاتينيّة.</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ff00"/>
                </a:solidFill>
                <a:latin typeface="Times New Roman"/>
                <a:ea typeface="Akhbar MT"/>
              </a:rPr>
              <a:t>4</a:t>
            </a:r>
            <a:r>
              <a:rPr b="0" lang="ar-SA" sz="2400" spc="-1" strike="noStrike">
                <a:solidFill>
                  <a:srgbClr val="ffff00"/>
                </a:solidFill>
                <a:latin typeface="Times New Roman"/>
                <a:ea typeface="Akhbar MT"/>
              </a:rPr>
              <a:t>- تخوف كلّ من بريطانيا والولايات المتحدة الأمريكيّة  من ازدياد قوّة ألمانيا البحريّة في المحيط الباسيفيكي والبحر الكاريبي وسعي الدولتين  لدى دول أمريكا الجنوبية و الوسطى للحصول منها على قواعد بحريّة, مما أدى إلى تقارب بحري بريطاني أمريكي للحدّ من الوجود الألماني البحري في هذه المناطق.</a:t>
            </a:r>
            <a:endParaRPr b="0" lang="en-US" sz="2400" spc="-1" strike="noStrike">
              <a:solidFill>
                <a:srgbClr val="ffffff"/>
              </a:solidFill>
              <a:latin typeface="Times New Roman"/>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a:t>
            </a:r>
            <a:r>
              <a:rPr b="0" lang="ar-SA" sz="2400" spc="-1" strike="noStrike">
                <a:solidFill>
                  <a:srgbClr val="ff0000"/>
                </a:solidFill>
                <a:latin typeface="Times New Roman"/>
                <a:cs typeface="Akhbar MT"/>
              </a:rPr>
              <a:t>أنظر الخريط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عنصر نائب للمحتوى 4" descr="خريطة أمريكا.bmp"/>
          <p:cNvPicPr/>
          <p:nvPr/>
        </p:nvPicPr>
        <p:blipFill>
          <a:blip r:embed="rId1"/>
          <a:stretch/>
        </p:blipFill>
        <p:spPr>
          <a:xfrm>
            <a:off x="555480" y="1165320"/>
            <a:ext cx="7923240" cy="4819680"/>
          </a:xfrm>
          <a:prstGeom prst="rect">
            <a:avLst/>
          </a:prstGeom>
          <a:ln w="0">
            <a:noFill/>
          </a:ln>
        </p:spPr>
      </p:pic>
      <p:sp>
        <p:nvSpPr>
          <p:cNvPr id="539" name="سهم للأسفل 6"/>
          <p:cNvSpPr/>
          <p:nvPr/>
        </p:nvSpPr>
        <p:spPr>
          <a:xfrm rot="18621600">
            <a:off x="6471360" y="4488480"/>
            <a:ext cx="511200" cy="1278000"/>
          </a:xfrm>
          <a:prstGeom prst="downArrow">
            <a:avLst>
              <a:gd name="adj1" fmla="val 50000"/>
              <a:gd name="adj2" fmla="val 50000"/>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0" name="سهم للأسفل 7"/>
          <p:cNvSpPr/>
          <p:nvPr/>
        </p:nvSpPr>
        <p:spPr>
          <a:xfrm rot="1651800">
            <a:off x="2115720" y="2841480"/>
            <a:ext cx="514440" cy="1501920"/>
          </a:xfrm>
          <a:prstGeom prst="downArrow">
            <a:avLst>
              <a:gd name="adj1" fmla="val 50000"/>
              <a:gd name="adj2" fmla="val 49997"/>
            </a:avLst>
          </a:prstGeom>
          <a:solidFill>
            <a:srgbClr val="ff9900"/>
          </a:solidFill>
          <a:ln w="25560">
            <a:solidFill>
              <a:srgbClr val="bc6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repeatCount="5000">
                                  <p:stCondLst>
                                    <p:cond delay="0"/>
                                  </p:stCondLst>
                                  <p:childTnLst>
                                    <p:set>
                                      <p:cBhvr>
                                        <p:cTn id="6" dur="1" fill="hold">
                                          <p:stCondLst>
                                            <p:cond delay="0"/>
                                          </p:stCondLst>
                                        </p:cTn>
                                        <p:tgtEl>
                                          <p:spTgt spid="539"/>
                                        </p:tgtEl>
                                        <p:attrNameLst>
                                          <p:attrName>style.visibility</p:attrName>
                                        </p:attrNameLst>
                                      </p:cBhvr>
                                      <p:to>
                                        <p:strVal val="visible"/>
                                      </p:to>
                                    </p:set>
                                    <p:animEffect filter="box(in)" transition="in">
                                      <p:cBhvr additive="repl">
                                        <p:cTn id="7" dur="2000"/>
                                        <p:tgtEl>
                                          <p:spTgt spid="539"/>
                                        </p:tgtEl>
                                      </p:cBhvr>
                                    </p:animEffect>
                                  </p:childTnLst>
                                </p:cTn>
                              </p:par>
                            </p:childTnLst>
                          </p:cTn>
                        </p:par>
                        <p:par>
                          <p:cTn id="8" fill="hold">
                            <p:stCondLst>
                              <p:cond delay="10000"/>
                            </p:stCondLst>
                            <p:childTnLst>
                              <p:par>
                                <p:cTn id="9" nodeType="afterEffect" fill="hold" presetClass="entr" presetID="4" presetSubtype="16" repeatCount="4000">
                                  <p:stCondLst>
                                    <p:cond delay="0"/>
                                  </p:stCondLst>
                                  <p:childTnLst>
                                    <p:set>
                                      <p:cBhvr>
                                        <p:cTn id="10" dur="1" fill="hold">
                                          <p:stCondLst>
                                            <p:cond delay="0"/>
                                          </p:stCondLst>
                                        </p:cTn>
                                        <p:tgtEl>
                                          <p:spTgt spid="540"/>
                                        </p:tgtEl>
                                        <p:attrNameLst>
                                          <p:attrName>style.visibility</p:attrName>
                                        </p:attrNameLst>
                                      </p:cBhvr>
                                      <p:to>
                                        <p:strVal val="visible"/>
                                      </p:to>
                                    </p:set>
                                    <p:animEffect filter="box(in)" transition="in">
                                      <p:cBhvr additive="repl">
                                        <p:cTn id="11"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799920"/>
            <a:ext cx="8229600" cy="5330520"/>
          </a:xfrm>
          <a:prstGeom prst="rect">
            <a:avLst/>
          </a:prstGeom>
          <a:noFill/>
          <a:ln w="0">
            <a:noFill/>
          </a:ln>
        </p:spPr>
        <p:txBody>
          <a:bodyPr anchor="t">
            <a:normAutofit fontScale="76000"/>
          </a:bodyPr>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5</a:t>
            </a:r>
            <a:r>
              <a:rPr b="0" lang="ar-SA" sz="2400" spc="-1" strike="noStrike">
                <a:solidFill>
                  <a:srgbClr val="ffff00"/>
                </a:solidFill>
                <a:latin typeface="Times New Roman"/>
                <a:ea typeface="Akhbar MT"/>
              </a:rPr>
              <a:t>- التّفاهم القائم بين بريطانيا والولايات المتحدة الأمريكية حول اتفاقية كلايتون – بولور عام </a:t>
            </a:r>
            <a:r>
              <a:rPr b="0" lang="ar-SA" sz="2400" spc="-1" strike="noStrike">
                <a:solidFill>
                  <a:srgbClr val="ff0000"/>
                </a:solidFill>
                <a:latin typeface="Times New Roman"/>
                <a:ea typeface="Akhbar MT"/>
              </a:rPr>
              <a:t>1850</a:t>
            </a:r>
            <a:r>
              <a:rPr b="0" lang="ar-SA" sz="2400" spc="-1" strike="noStrike">
                <a:solidFill>
                  <a:srgbClr val="ff0000"/>
                </a:solidFill>
                <a:latin typeface="Times New Roman"/>
                <a:cs typeface="Akhbar MT"/>
              </a:rPr>
              <a:t>م </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الخاصّة بمشروع قناة بنما والتي بموجبها حصلت بريطانيا على حقوق وامتيازات في هذا المشروع.إلا أن بريطانيا تنازلت عن حقوقها هذه للولايات المتّحدة الأمريكيّة اعترافاً و تقديراً منها لمبدأ مونرو.</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6</a:t>
            </a:r>
            <a:r>
              <a:rPr b="0" lang="ar-SA" sz="2400" spc="-1" strike="noStrike">
                <a:solidFill>
                  <a:srgbClr val="ffff00"/>
                </a:solidFill>
                <a:latin typeface="Times New Roman"/>
                <a:ea typeface="Akhbar MT"/>
              </a:rPr>
              <a:t>- الأصول الدّمويّة لسكّان الولايات المتّحدة الأمريكيّة التي تعود إلى أصول إنجليزية.إضافة إلى اللغة المشتركة , إضافة إلى اشتراك الدّولتين في دساتير وأنظمة الحكم. فضلاً عن العلاقات الاقتصاديّة القويّة بين بريطانيا و الولايات المتّحدة الأمريكيّة.</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وهكذا يتضّح أنّ هناك صلات قويّة بين الولايات المتّحدة الأمريكيّة وبريطانيا </a:t>
            </a:r>
            <a:endParaRPr b="0" lang="en-US" sz="2400" spc="-1" strike="noStrike">
              <a:solidFill>
                <a:srgbClr val="ffffff"/>
              </a:solidFill>
              <a:latin typeface="Times New Roman"/>
            </a:endParaRPr>
          </a:p>
          <a:p>
            <a:pPr marL="260640" indent="-260640" algn="r" rtl="1">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khbar MT"/>
              </a:rPr>
              <a:t>مراحل كسر العزلة:</a:t>
            </a:r>
            <a:endParaRPr b="0" lang="en-US" sz="32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Akhbar MT"/>
              </a:rPr>
              <a:t>ظلت الولايات المتّحدة الأمريكيّة متمسّكة بمبدأ العزلة مدّة طويلة من الزّمن فطبّقه الرّئيس مونرو عام </a:t>
            </a:r>
            <a:r>
              <a:rPr b="0" lang="ar-SA" sz="2400" spc="-1" strike="noStrike">
                <a:solidFill>
                  <a:srgbClr val="ff0000"/>
                </a:solidFill>
                <a:latin typeface="Times New Roman"/>
                <a:ea typeface="Akhbar MT"/>
              </a:rPr>
              <a:t>1823</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ea typeface="Akhbar MT"/>
              </a:rPr>
              <a:t>, واعتنى به الرّئيس جيمس بولك عام </a:t>
            </a:r>
            <a:r>
              <a:rPr b="0" lang="ar-SA" sz="2400" spc="-1" strike="noStrike">
                <a:solidFill>
                  <a:srgbClr val="ff0000"/>
                </a:solidFill>
                <a:latin typeface="Times New Roman"/>
                <a:ea typeface="Akhbar MT"/>
              </a:rPr>
              <a:t>1845</a:t>
            </a:r>
            <a:r>
              <a:rPr b="0" lang="ar-SA" sz="2400" spc="-1" strike="noStrike">
                <a:solidFill>
                  <a:srgbClr val="ff0000"/>
                </a:solidFill>
                <a:latin typeface="Times New Roman"/>
                <a:cs typeface="Akhbar MT"/>
              </a:rPr>
              <a:t>م</a:t>
            </a:r>
            <a:r>
              <a:rPr b="0" lang="ar-SA" sz="2400" spc="-1" strike="noStrike">
                <a:solidFill>
                  <a:srgbClr val="ffff00"/>
                </a:solidFill>
                <a:latin typeface="Times New Roman"/>
                <a:ea typeface="Akhbar MT"/>
              </a:rPr>
              <a:t> .</a:t>
            </a:r>
            <a:endParaRPr b="0" lang="en-US" sz="2400" spc="-1" strike="noStrike">
              <a:solidFill>
                <a:srgbClr val="ffffff"/>
              </a:solidFill>
              <a:latin typeface="Times New Roman"/>
            </a:endParaRPr>
          </a:p>
          <a:p>
            <a:pPr marL="260640" indent="-260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Akhbar MT"/>
              </a:rPr>
              <a:t>- وأعلن الرّئيس الأمريكي وليم ماكينلي الحرب على أسبانيا  في </a:t>
            </a:r>
            <a:r>
              <a:rPr b="0" lang="ar-SA" sz="2400" spc="-1" strike="noStrike">
                <a:solidFill>
                  <a:srgbClr val="ff0000"/>
                </a:solidFill>
                <a:latin typeface="Times New Roman"/>
                <a:cs typeface="Akhbar MT"/>
              </a:rPr>
              <a:t>مايو  </a:t>
            </a:r>
            <a:r>
              <a:rPr b="0" lang="ar-SA" sz="2400" spc="-1" strike="noStrike">
                <a:solidFill>
                  <a:srgbClr val="ff0000"/>
                </a:solidFill>
                <a:latin typeface="Times New Roman"/>
                <a:ea typeface="Akhbar MT"/>
              </a:rPr>
              <a:t>1898</a:t>
            </a:r>
            <a:r>
              <a:rPr b="0" lang="ar-SA" sz="2400" spc="-1" strike="noStrike">
                <a:solidFill>
                  <a:srgbClr val="ff0000"/>
                </a:solidFill>
                <a:latin typeface="Times New Roman"/>
                <a:cs typeface="Akhbar MT"/>
              </a:rPr>
              <a:t>م </a:t>
            </a:r>
            <a:r>
              <a:rPr b="0" lang="ar-SA" sz="2400" spc="-1" strike="noStrike">
                <a:solidFill>
                  <a:srgbClr val="ffff00"/>
                </a:solidFill>
                <a:latin typeface="Times New Roman"/>
                <a:cs typeface="Akhbar MT"/>
              </a:rPr>
              <a:t>انتهت بخروج كوبا ومنطقة الكاريبي من السّيادة الأسبانيّة لتدخل في ظلّ سيادة جديدة هي سيادة الولايات المتّحدة الأمري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3-17T19:44:26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