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E363-136C-4EA7-B7FE-078A1991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4225-B0AB-4CA1-8B1F-91AE8587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25EC-822A-4A53-8F51-56F70CD0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22F2-00A8-4370-ABAB-B7CBE3498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5971-F550-411C-9013-5261F5F32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6D81-84CE-43CC-9AEC-363FC0D6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50A8-693F-45B3-BF53-3798CD74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4D42-268B-47FB-B311-B8870C01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A4B6-7C2B-4814-A11B-98F81A2F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3428-2637-4CAC-A31A-2C1CAD31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3598-4AC8-4FA1-ADC7-68F5B3C7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0458-1973-4F59-A54D-F497DE74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9B6D-1D89-4060-BFC5-DC25094F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BC93-7886-4FE0-80E5-EBBF6A05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F490-A81E-46A0-AFC3-0D382032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383F-F6A8-4DBE-BC79-585DB860F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8B44-20CB-4F28-BC3F-EB2BC4DB5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93D4-60B9-4F0D-A9C6-7622D12E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21AC-9A92-4EB4-BE0D-7907F861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9E2A-2D6C-456F-B52E-94ABCED6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E110-D135-4393-BEE9-503268D2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19A1-234F-4D4B-90CD-C34C06F5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3754-709F-4694-A1DC-A1907706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7FF3-88ED-463F-94AC-76784E4D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D677-A308-4BE5-92B6-04CB3DDD7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7BCC-1FA1-4BB4-825E-A8E41035A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.my/imgres?imgurl=http://www.najaco.com/islam/touching_stories/pics/baaby_friends.jpg&amp;imgrefurl=http://www.najaco.com/islam/touching_stories/page1.htm&amp;h=280&amp;w=485&amp;sz=15&amp;tbnid=d5aJeri_S9AJ:&amp;tbnh=72&amp;tbnw=124&amp;start=2&amp;prev=/images%3Fq%3Dtouching%2Bfriends%26hl%3Den%26lr%3D%26sa%3D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28440" y="3352680"/>
            <a:ext cx="57913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6666"/>
                </a:solidFill>
                <a:latin typeface="Georgia"/>
              </a:rPr>
              <a:t>NONVERBAL MESSAGES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23160" y="838080"/>
            <a:ext cx="318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Alter ada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3332160" cy="4038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4038480"/>
            <a:ext cx="3505320" cy="20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50520" y="762120"/>
            <a:ext cx="346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Object ada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923080" y="2438280"/>
            <a:ext cx="2660400" cy="2971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38080" y="2500200"/>
            <a:ext cx="3048120" cy="33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1752480"/>
            <a:ext cx="48006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Body Appea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Height &amp; w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Hair length, color and sty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General attrac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350532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Body Messages:-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685800"/>
            <a:ext cx="405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where you regulate your own body movement &amp; gestures to comm. desired mea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314520" cy="3314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130480" cy="2743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419720" y="2438280"/>
            <a:ext cx="2297160" cy="4038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447920" y="2590920"/>
            <a:ext cx="2504880" cy="3333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6477120" y="380880"/>
            <a:ext cx="22143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33520" y="3200400"/>
            <a:ext cx="464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communicates the degre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pleasantness, agreement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ympathy f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Facial &amp; Eye Movement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1874880" y="172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4114800" cy="3810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14400" y="23623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Franklin Gothic Book"/>
              </a:rPr>
              <a:t>a)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Franklin Gothic Book"/>
              </a:rPr>
              <a:t>Facial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3520" y="198108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Facial Management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743200"/>
            <a:ext cx="624852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Intensifying to exaggerate a fe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Deintensifying to underpaly a fe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Neutralizing to hide a fe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Masking to replace the expression of one emotion for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Facial &amp; Eye Movement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p:transition spd="slow">
    <p:wipe dir="l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33520" y="198108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Garamond"/>
              </a:rPr>
              <a:t>b) Eye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2362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eye are regarded as the most important nonverbal message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3429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unctions of eye movement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3962520"/>
            <a:ext cx="624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o seek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o signal the openness in comm.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o signal the nature of a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o change the psychological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o help others maintain priv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o signal lack of interest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5335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Facial &amp; Eye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13560" y="304920"/>
            <a:ext cx="318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eorgia"/>
              </a:rPr>
              <a:t>eye 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486400" y="533520"/>
            <a:ext cx="3154320" cy="2367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343400" y="3124080"/>
            <a:ext cx="3048120" cy="2905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838080" y="3429000"/>
            <a:ext cx="2819520" cy="2562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85800" y="1143000"/>
            <a:ext cx="365760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2120" y="19051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Franklin Gothic Book"/>
              </a:rPr>
              <a:t>Spatial distances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:- the way in which you treat (use) a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2895480"/>
            <a:ext cx="510552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ntimate – touching to 18 in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ersonal – 18 inches to 4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ocial – 4feet to 12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ublic – 12 feet to 25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86680" y="1066680"/>
            <a:ext cx="68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Spatial &amp; Territorial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4572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patial distances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2490840" cy="2819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032840" y="403848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n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172200" y="3429000"/>
            <a:ext cx="2438280" cy="2050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966720" y="563868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962520" y="1066680"/>
            <a:ext cx="3124080" cy="2259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011720" y="1752480"/>
            <a:ext cx="11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2895480" y="4114800"/>
            <a:ext cx="2913120" cy="2182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761840" y="571500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11430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FUNCTIONS OF NONVERBAL COM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1828800"/>
            <a:ext cx="7635600" cy="45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fornian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fornian FB"/>
              </a:rPr>
              <a:t>Forming and Managing Im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fornian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fornian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fornian FB"/>
              </a:rPr>
              <a:t>Forming and Defining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fornian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fornian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fornian FB"/>
              </a:rPr>
              <a:t>Structuring conversation and Socia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fornian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fornian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fornian FB"/>
              </a:rPr>
              <a:t>Influence and De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fornian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fornian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fornian FB"/>
              </a:rPr>
              <a:t>Emotional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04920" y="17524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Franklin Gothic Book"/>
              </a:rPr>
              <a:t>Territorial :-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 the ownership or possessive reaction to a particular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pace or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35600" y="3048120"/>
            <a:ext cx="460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Palatino Linotype"/>
              </a:rPr>
              <a:t>Primary terr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Areas that you call your 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71760" y="40006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Palatino Linotype"/>
              </a:rPr>
              <a:t>Secondary terr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Areas that’s not your but you have occup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14000" y="5410080"/>
            <a:ext cx="466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Palatino Linotype"/>
              </a:rPr>
              <a:t>Public terr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Areas that are open to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86680" y="1066680"/>
            <a:ext cx="68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Spatial &amp; Territorial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38080" y="2514600"/>
            <a:ext cx="701064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66cc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Garamond"/>
              </a:rPr>
              <a:t>Central markers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– reserves a terr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66cc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Garamond"/>
              </a:rPr>
              <a:t>Boundary markers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– set boundaries between your territory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66cc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Garamond"/>
              </a:rPr>
              <a:t>Ear markers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– identify your pos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2520" y="1752480"/>
            <a:ext cx="70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Human use marker to signal their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86680" y="1066680"/>
            <a:ext cx="68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Spatial &amp; Territorial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181480" y="9144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essages that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uman-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2209680"/>
            <a:ext cx="556272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Color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Clothing &amp; Body Ado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pace Dec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mell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Attraction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Identification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40040" y="1066680"/>
            <a:ext cx="37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Artifactual Comm.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09480" y="10666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olor + Clothing + Space Dec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3753000" cy="3886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029200" y="2971800"/>
            <a:ext cx="3855960" cy="307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5905800" cy="39528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990720" y="10666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olor + Clothing + Space Dec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10666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olor + Clothing + Space Dec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943600" y="3505320"/>
            <a:ext cx="2246400" cy="2438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419720" y="2209680"/>
            <a:ext cx="1922400" cy="23623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1066680" y="2057400"/>
            <a:ext cx="1962360" cy="1962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1676520" y="40384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04920" y="17524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- the communicative function of touch and touching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2971800"/>
            <a:ext cx="5562720" cy="30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ositive emo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layful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Ri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ask-related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342900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The Meaning of To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92080" y="1066680"/>
            <a:ext cx="42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Touch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33520" y="3124080"/>
            <a:ext cx="731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Judgment about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you make judgment about another’s personality on the basis of the person paralinguistics c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Judgment about comm.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ow fast you talk influences how others perceive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7524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aralanguage – the vocal but nonverbal dimension of 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* It has a lot to do with how you say somet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08640" y="1066680"/>
            <a:ext cx="73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Paralanguage &amp; Silence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3200400"/>
            <a:ext cx="6248520" cy="29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llow for thinkin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Hurt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Respond to personal anxiety, shyness or thr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vent 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ommunicate emotional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ay nothing when you have nothing to s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4880" y="16765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ilence – the absence of sound but not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266688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Silence may be used to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47040" y="3032280"/>
            <a:ext cx="2496960" cy="3825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908640" y="1066680"/>
            <a:ext cx="73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Paralanguage &amp; Silence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62120" y="3352680"/>
            <a:ext cx="655308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rmal time – arbitrary &amp; culturally established ( second, years, semes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nformal time – general terms ( forever, soon, immediat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18288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use of time, how you organize and react to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2590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Cultura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88840" y="1066680"/>
            <a:ext cx="406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Time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09264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7200" y="175248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Monchro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eople compartmentalize tim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88840" y="1066680"/>
            <a:ext cx="406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Time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295280" y="2590920"/>
            <a:ext cx="6096240" cy="3267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590920" y="58644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Polychro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eople schedule several things at a tim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410080" y="3048120"/>
            <a:ext cx="2800440" cy="32004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57200" y="160020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Social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right time according to your culture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ociety, to do a variety of importan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371600" y="3352680"/>
            <a:ext cx="2971800" cy="27306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888840" y="1066680"/>
            <a:ext cx="406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Time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2743200" cy="18892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495680" y="3124080"/>
            <a:ext cx="3886200" cy="28623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590920" y="1600200"/>
            <a:ext cx="609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Psychologica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ast ori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esent ori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uture ori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371600" y="43434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403440" y="457200"/>
            <a:ext cx="406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Time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40080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47676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28560" y="87624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CHANNEL OF NONVERBAL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1905120"/>
            <a:ext cx="769608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Body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acial &amp; Eye M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patial &amp; Territorial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Artifactual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ouch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aralanguage &amp; Si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ime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350532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Body Messages:-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2057400"/>
            <a:ext cx="434340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Emblems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– body gestures that directly translat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llustrators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– non verbal behaviors literally illustrate verbal mess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05520" y="2666880"/>
            <a:ext cx="36576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ffect displays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– communicate emotional meaning (movement of the f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Regulators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– behaviors that monitor, control, coordinate the speaking of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685800"/>
            <a:ext cx="405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where you regulate your own body movement &amp; gestures to comm. desired mea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3200" y="1981080"/>
            <a:ext cx="34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33"/>
                </a:solidFill>
                <a:latin typeface="Arial"/>
              </a:rPr>
              <a:t>5 types of body movements :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144792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daptors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– nonverbal behaviors that are emitted without conscious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3200400"/>
            <a:ext cx="4038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Self-adap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– self touching movement (rubbing no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Alter adap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movement directed at the person with whom you are speaking ( straightening their t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Object adap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gestures focuses on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685800"/>
            <a:ext cx="405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where you regulate your own body movement &amp; gestures to comm. desired mea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350532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Body Messages:-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p:transition spd="slow">
    <p:wipe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2438640" cy="3047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34120" y="685800"/>
            <a:ext cx="27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Self-ada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419720" y="2057400"/>
            <a:ext cx="2666880" cy="2436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791320" y="3962520"/>
            <a:ext cx="2819160" cy="2185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2819520" y="3581280"/>
            <a:ext cx="180972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03:10:55Z</dcterms:created>
  <dc:creator>NODES</dc:creator>
  <dc:description/>
  <dc:language>en-US</dc:language>
  <cp:lastModifiedBy>roziya</cp:lastModifiedBy>
  <dcterms:modified xsi:type="dcterms:W3CDTF">2007-02-12T04:28:18Z</dcterms:modified>
  <cp:revision>26</cp:revision>
  <dc:subject/>
  <dc:title>NONVERBAL MESSAGES</dc:title>
</cp:coreProperties>
</file>