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3754-BBE5-456C-A8DE-DEE239F9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BAA-24B0-422A-9C03-00281841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FBC2-3082-4A43-B293-B4F210C9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041B-0A8F-41AC-986B-AFB0FD37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7EC3-4272-4263-9B5E-FB2AA0CB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99BC-9B3F-4CC2-8002-7E229E60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6042-9F2C-4CC6-BD50-C33A04FC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E2BA-298C-4495-9228-C1124FE7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984F-D8E6-4766-9DC2-6A63B2A7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0DE1-3075-47F3-8DD6-FA7338DF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FDE5-464D-44F6-9B9D-1E71BBCA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EA9B-7E31-4AB6-9F01-3120697C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A1CE-24BA-43B8-B4F4-B9015257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FBA1-7B95-4DC9-82BB-11A623B9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283A-861A-497E-8EE0-B75D8A54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D14E-3C1A-4BA2-AA9E-59EE0C9A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94A8-22E2-4A22-B4BA-67B19B7F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F11-FE1B-4C25-B21D-638F1AF6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2A02-51AF-4E88-AC12-D93D3082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E51-A6BD-47CF-ADCE-A72BB5A1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AD4-5958-448B-A9DD-9BE96992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E6A4-1615-4D08-B819-23744558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BF38-FB19-49AF-875C-9859B3BF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1ABD-D970-45A5-AE0A-8B8FFC01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8583-6B98-4BCA-938F-68A5FCEC8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EC6D-0C60-4427-9A59-7A03BF24C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.my/imgres?imgurl=http://www.najaco.com/islam/touching_stories/pics/baaby_friends.jpg&amp;imgrefurl=http://www.najaco.com/islam/touching_stories/page1.htm&amp;h=280&amp;w=485&amp;sz=15&amp;tbnid=d5aJeri_S9AJ:&amp;tbnh=72&amp;tbnw=124&amp;start=2&amp;prev=/images%3Fq%3Dtouching%2Bfriends%26hl%3Den%26lr%3D%26sa%3D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440" y="3352680"/>
            <a:ext cx="57913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6666"/>
                </a:solidFill>
                <a:latin typeface="Georgia"/>
              </a:rPr>
              <a:t>NONVERBAL MESSAGES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23160" y="83808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Alter ada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332160" cy="4038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4038480"/>
            <a:ext cx="3505320" cy="20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50520" y="762120"/>
            <a:ext cx="346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Object ada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923080" y="2438280"/>
            <a:ext cx="2660400" cy="2971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8080" y="2500200"/>
            <a:ext cx="3048120" cy="33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752480"/>
            <a:ext cx="48006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Body Appea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Height &amp;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Hair length, color and sty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General attra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350532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Body Messages:-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6858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where you regulate your own body movement &amp; gestures to comm. desired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314520" cy="331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130480" cy="2743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19720" y="2438280"/>
            <a:ext cx="2297160" cy="403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447920" y="2590920"/>
            <a:ext cx="2504880" cy="3333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477120" y="380880"/>
            <a:ext cx="22143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320040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ommunicates the degre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pleasantness, agreement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ympathy f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Facial &amp; Eye Movement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1874880" y="172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114800" cy="3810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14400" y="23623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Franklin Gothic Book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Franklin Gothic Book"/>
              </a:rPr>
              <a:t>Faci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198108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Facial Management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743200"/>
            <a:ext cx="624852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ntensifying to exaggerate a fe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Deintensifying to underpaly a fe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Neutralizing to hide a fe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Masking to replace the expression of one emotion fo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Facial &amp; Eye Movement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p:transition spd="slow">
    <p:wipe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19810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aramond"/>
              </a:rPr>
              <a:t>b) Eye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eye are regarded as the most important nonverbal message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3429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unctions of eye movement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396252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 seek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 signal the openness in comm.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 signal the nature of a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 change the psychological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 help others maintain priv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 signal lack of interest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5335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Facial &amp; Eye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13560" y="304920"/>
            <a:ext cx="31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eorgia"/>
              </a:rPr>
              <a:t>eye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3154320" cy="2367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343400" y="3124080"/>
            <a:ext cx="3048120" cy="2905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838080" y="3429000"/>
            <a:ext cx="2819520" cy="2562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85800" y="1143000"/>
            <a:ext cx="36576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19051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Franklin Gothic Book"/>
              </a:rPr>
              <a:t>Spatial distances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:- the way in which you treat (use) a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2895480"/>
            <a:ext cx="510552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timate – touching to 18 i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ersonal – 18 inches to 4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cial – 4feet to 12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ublic – 12 feet to 25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86680" y="1066680"/>
            <a:ext cx="68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Spatial &amp; Territorial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4572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patial distanc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2490840" cy="2819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32840" y="40384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172200" y="3429000"/>
            <a:ext cx="2438280" cy="2050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966720" y="563868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962520" y="1066680"/>
            <a:ext cx="3124080" cy="2259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011720" y="175248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895480" y="4114800"/>
            <a:ext cx="2913120" cy="2182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61840" y="57150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143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FUNCTIONS OF NONVERBAL COM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828800"/>
            <a:ext cx="7635600" cy="45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fornian FB"/>
              </a:rPr>
              <a:t>Forming and Managing Im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fornian FB"/>
              </a:rPr>
              <a:t>Forming and Defining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fornian FB"/>
              </a:rPr>
              <a:t>Structuring conversation and 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fornian FB"/>
              </a:rPr>
              <a:t>Influence and D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fornian FB"/>
              </a:rPr>
              <a:t>Emotional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17524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Franklin Gothic Book"/>
              </a:rPr>
              <a:t>Territorial :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 the ownership or possessive reaction to a particular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pace or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5600" y="3048120"/>
            <a:ext cx="460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Palatino Linotype"/>
              </a:rPr>
              <a:t>Primary terr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Areas that you call you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71760" y="40006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Palatino Linotype"/>
              </a:rPr>
              <a:t>Secondary terr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Areas that’s not your but you have occup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14000" y="5410080"/>
            <a:ext cx="466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Palatino Linotype"/>
              </a:rPr>
              <a:t>Public terr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Areas that are open to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86680" y="1066680"/>
            <a:ext cx="68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Spatial &amp; Territorial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2514600"/>
            <a:ext cx="701064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66cc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Garamond"/>
              </a:rPr>
              <a:t>Central marker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– reserves a terr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66cc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Garamond"/>
              </a:rPr>
              <a:t>Boundary marker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– set boundaries between your territory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66cc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Garamond"/>
              </a:rPr>
              <a:t>Ear marker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– identify your pos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2520" y="1752480"/>
            <a:ext cx="70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Human use marker to signal their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6680" y="1066680"/>
            <a:ext cx="68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Spatial &amp; Territorial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181480" y="9144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essages that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uman-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2209680"/>
            <a:ext cx="556272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olor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lothing &amp; Body Ado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pace Dec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mel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Attraction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dentification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40040" y="1066680"/>
            <a:ext cx="37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Artifactual Comm.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09480" y="10666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olor + Clothing + Space Dec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753000" cy="3886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029200" y="2971800"/>
            <a:ext cx="3855960" cy="30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905800" cy="3952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990720" y="10666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olor + Clothing + Space Dec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10666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olor + Clothing + Space Dec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2246400" cy="2438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419720" y="2209680"/>
            <a:ext cx="1922400" cy="2362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066680" y="2057400"/>
            <a:ext cx="1962360" cy="1962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676520" y="40384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17524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 the communicative function of touch and touch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2971800"/>
            <a:ext cx="5562720" cy="30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ositive e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layful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i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ask-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34290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he Meaning of To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92080" y="1066680"/>
            <a:ext cx="42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Touch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312408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Judgment abou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you make judgment about another’s personality on the basis of the person paralinguistics c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Judgment about comm.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ow fast you talk influences how others perceive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7524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aralanguage – the vocal but nonverbal dimension of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It has a lot to do with how you say some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8640" y="106668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Paralanguage &amp; Silenc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3200400"/>
            <a:ext cx="624852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llow for think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Hurt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espond to personal anxiety, shyness or 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mmunicate emotional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ay nothing when you have nothing to 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4880" y="16765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ilence – the absence of sound but no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266688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ilence may be used to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47040" y="3032280"/>
            <a:ext cx="2496960" cy="3825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08640" y="106668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Paralanguage &amp; Silenc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62120" y="3352680"/>
            <a:ext cx="655308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mal time – arbitrary &amp; culturally established ( second, years, semes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formal time – general terms ( forever, soon, immediat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1828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use of time, how you organize and react to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590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Cultur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88840" y="1066680"/>
            <a:ext cx="40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Tim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0926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17524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Monchro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eople compartmentalize tim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8840" y="1066680"/>
            <a:ext cx="40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Tim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6096240" cy="3267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590920" y="5864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Polychro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eople schedule several things at a tim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410080" y="3048120"/>
            <a:ext cx="2800440" cy="3200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57200" y="160020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Social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right time according to your culture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ciety, to do a variety of importa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2971800" cy="27306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88840" y="1066680"/>
            <a:ext cx="40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Tim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743200" cy="1889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495680" y="3124080"/>
            <a:ext cx="3886200" cy="2862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590920" y="160020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Psychologic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ast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ent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uture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371600" y="43434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403440" y="457200"/>
            <a:ext cx="40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Tim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4008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4767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28560" y="87624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CHANNEL OF NONVERBAL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905120"/>
            <a:ext cx="769608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Body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acial &amp; Eye M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patial &amp; Territorial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rtifactual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ouch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aralanguage &amp; Si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im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350532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Body Messages:-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057400"/>
            <a:ext cx="43434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Emblem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– body gestures that directly translat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Illustrators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– non verbal behaviors literally illustrate verbal mess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2666880"/>
            <a:ext cx="36576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ffect display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– communicate emotional meaning (movement of the f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Regulators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– behaviors that monitor, control, coordinate the speaking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6858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where you regulate your own body movement &amp; gestures to comm. desired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3200" y="198108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Arial"/>
              </a:rPr>
              <a:t>5 types of body movements :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14479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daptor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– nonverbal behaviors that are emitted without conscious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3200400"/>
            <a:ext cx="403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Self-ada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– self touching movement (rubbing no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lter adap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movement directed at the person with whom you are speaking ( straightening their t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Object adap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gestures focuses on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6858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where you regulate your own body movement &amp; gestures to comm. desired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350532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Body Messages:-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p:transition spd="slow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2438640" cy="3047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34120" y="685800"/>
            <a:ext cx="27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Garamond"/>
              </a:rPr>
              <a:t>Self-ada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19720" y="2057400"/>
            <a:ext cx="2666880" cy="2436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2819160" cy="21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819520" y="3581280"/>
            <a:ext cx="18097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03:10:55Z</dcterms:created>
  <dc:creator>NODES</dc:creator>
  <dc:description/>
  <dc:language>en-US</dc:language>
  <cp:lastModifiedBy>roziya</cp:lastModifiedBy>
  <dcterms:modified xsi:type="dcterms:W3CDTF">2007-02-12T04:28:18Z</dcterms:modified>
  <cp:revision>26</cp:revision>
  <dc:subject/>
  <dc:title>NONVERBAL MESSAGES</dc:title>
</cp:coreProperties>
</file>