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4.jpeg" ContentType="image/jpeg"/>
  <Override PartName="/ppt/media/image13.jpeg" ContentType="image/jpeg"/>
  <Override PartName="/ppt/media/Century-Lover%20Why22.wav" ContentType="audio/x-wav"/>
  <Override PartName="/ppt/media/image10.jpeg" ContentType="image/jpeg"/>
  <Override PartName="/ppt/media/image5.png" ContentType="image/png"/>
  <Override PartName="/ppt/media/image8.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881B8-A896-40AB-93EE-D638D844B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D104E-B1F6-4B4E-812F-1365CB2C9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C1B481-5976-4E73-B10A-58991E6CC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C6067-DB8F-45F0-83D0-63107ECEEF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8E64C-B32E-4A32-947B-DE5655E12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0248F-718D-4515-AC8A-5941710AF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63B1E-96F9-44A1-B41C-C528EDB3C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86623-0F3D-466B-AD82-3A1C81981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AB248-588D-41ED-9BF2-5C824D03D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CE4A9-930A-4B17-B0A7-6CF78ADDF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D62C1-2C83-45AC-99AB-F820BA561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FC259-B9DD-4B61-82C4-CD4AC32580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515C1-E9A5-4264-9B8D-87697B167C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entury-Lover%20Why22.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jpeg"/><Relationship Id="rId3" Type="http://schemas.openxmlformats.org/officeDocument/2006/relationships/hyperlink" Target="http://lossuspirosdelalma.blogspot.com/" TargetMode="External"/><Relationship Id="rId4" Type="http://schemas.openxmlformats.org/officeDocument/2006/relationships/hyperlink" Target="http://lossuspirosdelalma.blogspot.com/" TargetMode="External"/><Relationship Id="rId5" Type="http://schemas.openxmlformats.org/officeDocument/2006/relationships/hyperlink" Target="http://lossuspirosdelalma.blogspot.com/" TargetMode="External"/><Relationship Id="rId6"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403280" y="0"/>
            <a:ext cx="6802560" cy="6858000"/>
          </a:xfrm>
          <a:prstGeom prst="rect">
            <a:avLst/>
          </a:prstGeom>
          <a:ln w="0">
            <a:noFill/>
          </a:ln>
        </p:spPr>
      </p:pic>
      <p:sp>
        <p:nvSpPr>
          <p:cNvPr id="42" name=""/>
          <p:cNvSpPr/>
          <p:nvPr/>
        </p:nvSpPr>
        <p:spPr>
          <a:xfrm>
            <a:off x="900000" y="2637000"/>
            <a:ext cx="7559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9fce4a"/>
                </a:solidFill>
                <a:latin typeface="Arial"/>
              </a:rPr>
              <a:t>FELIZ DÍA PAPA</a:t>
            </a:r>
            <a:endParaRPr b="0" lang="en-US" sz="7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86" name=""/>
          <p:cNvGrpSpPr/>
          <p:nvPr/>
        </p:nvGrpSpPr>
        <p:grpSpPr>
          <a:xfrm>
            <a:off x="1042920" y="476280"/>
            <a:ext cx="6769080" cy="5106960"/>
            <a:chOff x="1042920" y="476280"/>
            <a:chExt cx="6769080" cy="5106960"/>
          </a:xfrm>
        </p:grpSpPr>
        <p:sp>
          <p:nvSpPr>
            <p:cNvPr id="87" name=""/>
            <p:cNvSpPr/>
            <p:nvPr/>
          </p:nvSpPr>
          <p:spPr>
            <a:xfrm>
              <a:off x="1093680" y="526680"/>
              <a:ext cx="6667560" cy="5005800"/>
            </a:xfrm>
            <a:prstGeom prst="octagon">
              <a:avLst>
                <a:gd name="adj" fmla="val 0"/>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042920" y="476280"/>
              <a:ext cx="6769080" cy="5106960"/>
            </a:xfrm>
            <a:custGeom>
              <a:avLst/>
              <a:gdLst/>
              <a:ahLst/>
              <a:rect l="l" t="t" r="r" b="b"/>
              <a:pathLst>
                <a:path w="4673" h="3526">
                  <a:moveTo>
                    <a:pt x="4385" y="0"/>
                  </a:moveTo>
                  <a:lnTo>
                    <a:pt x="4673" y="287"/>
                  </a:lnTo>
                  <a:lnTo>
                    <a:pt x="4673" y="3238"/>
                  </a:lnTo>
                  <a:lnTo>
                    <a:pt x="4385" y="3526"/>
                  </a:lnTo>
                  <a:lnTo>
                    <a:pt x="287" y="3526"/>
                  </a:lnTo>
                  <a:lnTo>
                    <a:pt x="0" y="3238"/>
                  </a:lnTo>
                  <a:lnTo>
                    <a:pt x="0" y="287"/>
                  </a:lnTo>
                  <a:lnTo>
                    <a:pt x="287" y="0"/>
                  </a:lnTo>
                  <a:lnTo>
                    <a:pt x="4673" y="0"/>
                  </a:lnTo>
                  <a:lnTo>
                    <a:pt x="4673" y="3526"/>
                  </a:lnTo>
                  <a:lnTo>
                    <a:pt x="0" y="352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 name=""/>
          <p:cNvSpPr/>
          <p:nvPr/>
        </p:nvSpPr>
        <p:spPr>
          <a:xfrm>
            <a:off x="468360" y="5589720"/>
            <a:ext cx="83516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 buen papá es el que después, de una dura jornada de trabajo, al llegar a casa abraza a sus hijos y se vuelve un niño jugando con ellos.</a:t>
            </a:r>
            <a:br>
              <a:rPr sz="2000"/>
            </a:br>
            <a:endParaRPr b="0" lang="en-US" sz="2000" spc="-1" strike="noStrike">
              <a:solidFill>
                <a:srgbClr val="000000"/>
              </a:solidFill>
              <a:latin typeface="Arial"/>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91" name=""/>
          <p:cNvGrpSpPr/>
          <p:nvPr/>
        </p:nvGrpSpPr>
        <p:grpSpPr>
          <a:xfrm>
            <a:off x="324000" y="981000"/>
            <a:ext cx="5257800" cy="5257800"/>
            <a:chOff x="324000" y="981000"/>
            <a:chExt cx="5257800" cy="5257800"/>
          </a:xfrm>
        </p:grpSpPr>
        <p:sp>
          <p:nvSpPr>
            <p:cNvPr id="92" name=""/>
            <p:cNvSpPr/>
            <p:nvPr/>
          </p:nvSpPr>
          <p:spPr>
            <a:xfrm>
              <a:off x="368640" y="1025640"/>
              <a:ext cx="5168160" cy="5168160"/>
            </a:xfrm>
            <a:prstGeom prst="octagon">
              <a:avLst>
                <a:gd name="adj" fmla="val 0"/>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324000" y="981000"/>
              <a:ext cx="5257800" cy="5257800"/>
            </a:xfrm>
            <a:custGeom>
              <a:avLst/>
              <a:gdLst/>
              <a:ahLst/>
              <a:rect l="l" t="t" r="r" b="b"/>
              <a:pathLst>
                <a:path w="3516" h="3516">
                  <a:moveTo>
                    <a:pt x="3271" y="0"/>
                  </a:moveTo>
                  <a:lnTo>
                    <a:pt x="3516" y="244"/>
                  </a:lnTo>
                  <a:lnTo>
                    <a:pt x="3516" y="3271"/>
                  </a:lnTo>
                  <a:lnTo>
                    <a:pt x="3271" y="3516"/>
                  </a:lnTo>
                  <a:lnTo>
                    <a:pt x="244" y="3516"/>
                  </a:lnTo>
                  <a:lnTo>
                    <a:pt x="0" y="3271"/>
                  </a:lnTo>
                  <a:lnTo>
                    <a:pt x="0" y="244"/>
                  </a:lnTo>
                  <a:lnTo>
                    <a:pt x="244" y="0"/>
                  </a:lnTo>
                  <a:lnTo>
                    <a:pt x="3516" y="0"/>
                  </a:lnTo>
                  <a:lnTo>
                    <a:pt x="3516" y="3516"/>
                  </a:lnTo>
                  <a:lnTo>
                    <a:pt x="0" y="351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 name=""/>
          <p:cNvSpPr/>
          <p:nvPr/>
        </p:nvSpPr>
        <p:spPr>
          <a:xfrm>
            <a:off x="5580000" y="3284640"/>
            <a:ext cx="309564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ablemente no haya en nuestra vida un instante más terrible que aquel en que uno descubre que su padre es un hombre. . .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cho de carne humana.</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96" name=""/>
          <p:cNvGrpSpPr/>
          <p:nvPr/>
        </p:nvGrpSpPr>
        <p:grpSpPr>
          <a:xfrm>
            <a:off x="395280" y="476280"/>
            <a:ext cx="4038480" cy="5356080"/>
            <a:chOff x="395280" y="476280"/>
            <a:chExt cx="4038480" cy="5356080"/>
          </a:xfrm>
        </p:grpSpPr>
        <p:sp>
          <p:nvSpPr>
            <p:cNvPr id="97" name=""/>
            <p:cNvSpPr/>
            <p:nvPr/>
          </p:nvSpPr>
          <p:spPr>
            <a:xfrm>
              <a:off x="436320" y="517320"/>
              <a:ext cx="3956040" cy="5273640"/>
            </a:xfrm>
            <a:prstGeom prst="octagon">
              <a:avLst>
                <a:gd name="adj" fmla="val 0"/>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95280" y="476280"/>
              <a:ext cx="4038480" cy="5356080"/>
            </a:xfrm>
            <a:custGeom>
              <a:avLst/>
              <a:gdLst/>
              <a:ahLst/>
              <a:rect l="l" t="t" r="r" b="b"/>
              <a:pathLst>
                <a:path w="2646" h="3510">
                  <a:moveTo>
                    <a:pt x="2430" y="0"/>
                  </a:moveTo>
                  <a:lnTo>
                    <a:pt x="2646" y="216"/>
                  </a:lnTo>
                  <a:lnTo>
                    <a:pt x="2646" y="3294"/>
                  </a:lnTo>
                  <a:lnTo>
                    <a:pt x="2430" y="3510"/>
                  </a:lnTo>
                  <a:lnTo>
                    <a:pt x="216" y="3510"/>
                  </a:lnTo>
                  <a:lnTo>
                    <a:pt x="0" y="3294"/>
                  </a:lnTo>
                  <a:lnTo>
                    <a:pt x="0" y="216"/>
                  </a:lnTo>
                  <a:lnTo>
                    <a:pt x="216" y="0"/>
                  </a:lnTo>
                  <a:lnTo>
                    <a:pt x="2646" y="0"/>
                  </a:lnTo>
                  <a:lnTo>
                    <a:pt x="2646" y="3510"/>
                  </a:lnTo>
                  <a:lnTo>
                    <a:pt x="0" y="351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 name=""/>
          <p:cNvSpPr/>
          <p:nvPr/>
        </p:nvSpPr>
        <p:spPr>
          <a:xfrm>
            <a:off x="4356000" y="1844640"/>
            <a:ext cx="4319640" cy="3293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i papá con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do mi amor.</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LIZ DIA DEL PADRE</a:t>
            </a:r>
            <a:endParaRPr b="0" lang="en-US" sz="3200" spc="-1" strike="noStrike">
              <a:solidFill>
                <a:srgbClr val="000000"/>
              </a:solidFill>
              <a:latin typeface="Arial"/>
            </a:endParaRPr>
          </a:p>
        </p:txBody>
      </p:sp>
      <p:sp>
        <p:nvSpPr>
          <p:cNvPr id="100" name=""/>
          <p:cNvSpPr/>
          <p:nvPr/>
        </p:nvSpPr>
        <p:spPr>
          <a:xfrm>
            <a:off x="407520" y="5784840"/>
            <a:ext cx="2705760" cy="215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c0c0c0"/>
                </a:solidFill>
                <a:latin typeface="Arial"/>
              </a:rPr>
              <a:t>Realizado por: </a:t>
            </a:r>
            <a:r>
              <a:rPr b="0" lang="es-ES" sz="800" spc="-1" strike="noStrike" u="sng">
                <a:solidFill>
                  <a:srgbClr val="009999"/>
                </a:solidFill>
                <a:uFillTx/>
                <a:latin typeface="Arial"/>
                <a:hlinkClick r:id="rId3"/>
              </a:rPr>
              <a:t>http</a:t>
            </a:r>
            <a:r>
              <a:rPr b="0" lang="es-ES" sz="800" spc="-1" strike="noStrike" u="sng">
                <a:solidFill>
                  <a:srgbClr val="009999"/>
                </a:solidFill>
                <a:uFillTx/>
                <a:latin typeface="Arial"/>
                <a:hlinkClick r:id="rId4"/>
              </a:rPr>
              <a:t>://</a:t>
            </a:r>
            <a:r>
              <a:rPr b="0" lang="es-ES" sz="800" spc="-1" strike="noStrike" u="sng">
                <a:solidFill>
                  <a:srgbClr val="009999"/>
                </a:solidFill>
                <a:uFillTx/>
                <a:latin typeface="Arial"/>
                <a:hlinkClick r:id="rId5"/>
              </a:rPr>
              <a:t>lossuspirosdelalma.blogspot.com</a:t>
            </a:r>
            <a:r>
              <a:rPr b="1" lang="es-ES" sz="800" spc="-1" strike="noStrike">
                <a:solidFill>
                  <a:srgbClr val="000000"/>
                </a:solidFill>
                <a:latin typeface="Arial"/>
              </a:rPr>
              <a:t>/</a:t>
            </a:r>
            <a:endParaRPr b="0" lang="en-US" sz="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fd5"/>
            </a:gs>
            <a:gs pos="100000">
              <a:srgbClr val="3f4036"/>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44" name=""/>
          <p:cNvGrpSpPr/>
          <p:nvPr/>
        </p:nvGrpSpPr>
        <p:grpSpPr>
          <a:xfrm>
            <a:off x="2050920" y="692280"/>
            <a:ext cx="4699080" cy="4751280"/>
            <a:chOff x="2050920" y="692280"/>
            <a:chExt cx="4699080" cy="4751280"/>
          </a:xfrm>
        </p:grpSpPr>
        <p:sp>
          <p:nvSpPr>
            <p:cNvPr id="45" name=""/>
            <p:cNvSpPr/>
            <p:nvPr/>
          </p:nvSpPr>
          <p:spPr>
            <a:xfrm>
              <a:off x="2091600" y="732600"/>
              <a:ext cx="4617360" cy="4670280"/>
            </a:xfrm>
            <a:prstGeom prst="octagon">
              <a:avLst>
                <a:gd name="adj" fmla="val 0"/>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2050920" y="692280"/>
              <a:ext cx="4699080" cy="4751280"/>
            </a:xfrm>
            <a:custGeom>
              <a:avLst/>
              <a:gdLst/>
              <a:ahLst/>
              <a:rect l="l" t="t" r="r" b="b"/>
              <a:pathLst>
                <a:path w="3478" h="3516">
                  <a:moveTo>
                    <a:pt x="3234" y="0"/>
                  </a:moveTo>
                  <a:lnTo>
                    <a:pt x="3478" y="243"/>
                  </a:lnTo>
                  <a:lnTo>
                    <a:pt x="3478" y="3272"/>
                  </a:lnTo>
                  <a:lnTo>
                    <a:pt x="3234" y="3516"/>
                  </a:lnTo>
                  <a:lnTo>
                    <a:pt x="243" y="3516"/>
                  </a:lnTo>
                  <a:lnTo>
                    <a:pt x="0" y="3272"/>
                  </a:lnTo>
                  <a:lnTo>
                    <a:pt x="0" y="243"/>
                  </a:lnTo>
                  <a:lnTo>
                    <a:pt x="243" y="0"/>
                  </a:lnTo>
                  <a:lnTo>
                    <a:pt x="3478" y="0"/>
                  </a:lnTo>
                  <a:lnTo>
                    <a:pt x="3478" y="3516"/>
                  </a:lnTo>
                  <a:lnTo>
                    <a:pt x="0" y="351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 name=""/>
          <p:cNvSpPr/>
          <p:nvPr/>
        </p:nvSpPr>
        <p:spPr>
          <a:xfrm>
            <a:off x="539640" y="5445000"/>
            <a:ext cx="83534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un recién nacido aprieta </a:t>
            </a:r>
            <a:r>
              <a:rPr b="0" lang="en-US" sz="1800" spc="-1" strike="noStrike">
                <a:solidFill>
                  <a:srgbClr val="ffffff"/>
                </a:solidFill>
                <a:latin typeface="Arial"/>
              </a:rPr>
              <a:t>por primera vez</a:t>
            </a:r>
            <a:r>
              <a:rPr b="0" lang="en-US" sz="1800" spc="-1" strike="noStrike">
                <a:solidFill>
                  <a:srgbClr val="000000"/>
                </a:solidFill>
                <a:latin typeface="Arial"/>
              </a:rPr>
              <a:t> </a:t>
            </a:r>
            <a:r>
              <a:rPr b="0" lang="en-US" sz="2000" spc="-1" strike="noStrike">
                <a:solidFill>
                  <a:srgbClr val="ffffff"/>
                </a:solidFill>
                <a:latin typeface="Arial"/>
              </a:rPr>
              <a:t>con su pequeño puño, el dedo de su padre, lo tiene atrapado para siempre.</a:t>
            </a:r>
            <a:br>
              <a:rPr sz="2000"/>
            </a:br>
            <a:endParaRPr b="0" lang="en-US" sz="2000" spc="-1" strike="noStrike">
              <a:solidFill>
                <a:srgbClr val="000000"/>
              </a:solidFill>
              <a:latin typeface="Arial"/>
            </a:endParaRPr>
          </a:p>
        </p:txBody>
      </p:sp>
    </p:spTree>
  </p:cSld>
  <p:transition advTm="7000">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fd5"/>
            </a:gs>
            <a:gs pos="100000">
              <a:srgbClr val="070706"/>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49" name=""/>
          <p:cNvGrpSpPr/>
          <p:nvPr/>
        </p:nvGrpSpPr>
        <p:grpSpPr>
          <a:xfrm>
            <a:off x="1547640" y="620640"/>
            <a:ext cx="6048720" cy="5021280"/>
            <a:chOff x="1547640" y="620640"/>
            <a:chExt cx="6048720" cy="5021280"/>
          </a:xfrm>
        </p:grpSpPr>
        <p:sp>
          <p:nvSpPr>
            <p:cNvPr id="50" name=""/>
            <p:cNvSpPr/>
            <p:nvPr/>
          </p:nvSpPr>
          <p:spPr>
            <a:xfrm>
              <a:off x="1594440" y="667800"/>
              <a:ext cx="5954760" cy="4926600"/>
            </a:xfrm>
            <a:prstGeom prst="octagon">
              <a:avLst>
                <a:gd name="adj" fmla="val 0"/>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547640" y="620640"/>
              <a:ext cx="6048720" cy="5021280"/>
            </a:xfrm>
            <a:custGeom>
              <a:avLst/>
              <a:gdLst/>
              <a:ahLst/>
              <a:rect l="l" t="t" r="r" b="b"/>
              <a:pathLst>
                <a:path w="4243" h="3522">
                  <a:moveTo>
                    <a:pt x="3971" y="0"/>
                  </a:moveTo>
                  <a:lnTo>
                    <a:pt x="4243" y="271"/>
                  </a:lnTo>
                  <a:lnTo>
                    <a:pt x="4243" y="3250"/>
                  </a:lnTo>
                  <a:lnTo>
                    <a:pt x="3971" y="3522"/>
                  </a:lnTo>
                  <a:lnTo>
                    <a:pt x="271" y="3522"/>
                  </a:lnTo>
                  <a:lnTo>
                    <a:pt x="0" y="3250"/>
                  </a:lnTo>
                  <a:lnTo>
                    <a:pt x="0" y="271"/>
                  </a:lnTo>
                  <a:lnTo>
                    <a:pt x="271" y="0"/>
                  </a:lnTo>
                  <a:lnTo>
                    <a:pt x="4243" y="0"/>
                  </a:lnTo>
                  <a:lnTo>
                    <a:pt x="4243" y="3522"/>
                  </a:lnTo>
                  <a:lnTo>
                    <a:pt x="0" y="352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 name=""/>
          <p:cNvSpPr/>
          <p:nvPr/>
        </p:nvSpPr>
        <p:spPr>
          <a:xfrm>
            <a:off x="2050920" y="5734080"/>
            <a:ext cx="48974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mejor legado de un padre a sus hijos es un poco de su tiempo cada día.</a:t>
            </a:r>
            <a:endParaRPr b="0" lang="en-US" sz="2000" spc="-1" strike="noStrike">
              <a:solidFill>
                <a:srgbClr val="000000"/>
              </a:solidFill>
              <a:latin typeface="Arial"/>
            </a:endParaRPr>
          </a:p>
        </p:txBody>
      </p:sp>
    </p:spTree>
  </p:cSld>
  <p:transition advTm="7000">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54" name=""/>
          <p:cNvGrpSpPr/>
          <p:nvPr/>
        </p:nvGrpSpPr>
        <p:grpSpPr>
          <a:xfrm>
            <a:off x="900000" y="620640"/>
            <a:ext cx="7382160" cy="5032440"/>
            <a:chOff x="900000" y="620640"/>
            <a:chExt cx="7382160" cy="5032440"/>
          </a:xfrm>
        </p:grpSpPr>
        <p:sp>
          <p:nvSpPr>
            <p:cNvPr id="55" name=""/>
            <p:cNvSpPr/>
            <p:nvPr/>
          </p:nvSpPr>
          <p:spPr>
            <a:xfrm>
              <a:off x="953280" y="673920"/>
              <a:ext cx="7274880" cy="4925160"/>
            </a:xfrm>
            <a:prstGeom prst="octagon">
              <a:avLst>
                <a:gd name="adj" fmla="val 0"/>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900000" y="620640"/>
              <a:ext cx="7382160" cy="5032440"/>
            </a:xfrm>
            <a:custGeom>
              <a:avLst/>
              <a:gdLst/>
              <a:ahLst/>
              <a:rect l="l" t="t" r="r" b="b"/>
              <a:pathLst>
                <a:path w="4968" h="3387">
                  <a:moveTo>
                    <a:pt x="4672" y="0"/>
                  </a:moveTo>
                  <a:lnTo>
                    <a:pt x="4968" y="295"/>
                  </a:lnTo>
                  <a:lnTo>
                    <a:pt x="4968" y="3091"/>
                  </a:lnTo>
                  <a:lnTo>
                    <a:pt x="4672" y="3387"/>
                  </a:lnTo>
                  <a:lnTo>
                    <a:pt x="295" y="3387"/>
                  </a:lnTo>
                  <a:lnTo>
                    <a:pt x="0" y="3091"/>
                  </a:lnTo>
                  <a:lnTo>
                    <a:pt x="0" y="295"/>
                  </a:lnTo>
                  <a:lnTo>
                    <a:pt x="295" y="0"/>
                  </a:lnTo>
                  <a:lnTo>
                    <a:pt x="4968" y="0"/>
                  </a:lnTo>
                  <a:lnTo>
                    <a:pt x="4968" y="3387"/>
                  </a:lnTo>
                  <a:lnTo>
                    <a:pt x="0" y="338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 name=""/>
          <p:cNvSpPr/>
          <p:nvPr/>
        </p:nvSpPr>
        <p:spPr>
          <a:xfrm>
            <a:off x="826920" y="5805360"/>
            <a:ext cx="777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971640" y="5589720"/>
            <a:ext cx="7561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problema con la familia es que los hijos abandonan un día la infancia, pero los padres nunca dejan la paternidad.</a:t>
            </a:r>
            <a:endParaRPr b="0" lang="en-US" sz="2000" spc="-1" strike="noStrike">
              <a:solidFill>
                <a:srgbClr val="000000"/>
              </a:solidFill>
              <a:latin typeface="Arial"/>
            </a:endParaRPr>
          </a:p>
        </p:txBody>
      </p:sp>
    </p:spTree>
  </p:cSld>
  <p:transition advTm="7000">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60" name=""/>
          <p:cNvGrpSpPr/>
          <p:nvPr/>
        </p:nvGrpSpPr>
        <p:grpSpPr>
          <a:xfrm>
            <a:off x="539640" y="549360"/>
            <a:ext cx="4200480" cy="5572080"/>
            <a:chOff x="539640" y="549360"/>
            <a:chExt cx="4200480" cy="5572080"/>
          </a:xfrm>
        </p:grpSpPr>
        <p:sp>
          <p:nvSpPr>
            <p:cNvPr id="61" name=""/>
            <p:cNvSpPr/>
            <p:nvPr/>
          </p:nvSpPr>
          <p:spPr>
            <a:xfrm>
              <a:off x="582480" y="592200"/>
              <a:ext cx="4114800" cy="5486400"/>
            </a:xfrm>
            <a:prstGeom prst="octagon">
              <a:avLst>
                <a:gd name="adj" fmla="val 0"/>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39640" y="549360"/>
              <a:ext cx="4200480" cy="5572080"/>
            </a:xfrm>
            <a:custGeom>
              <a:avLst/>
              <a:gdLst/>
              <a:ahLst/>
              <a:rect l="l" t="t" r="r" b="b"/>
              <a:pathLst>
                <a:path w="2646" h="3510">
                  <a:moveTo>
                    <a:pt x="2430" y="0"/>
                  </a:moveTo>
                  <a:lnTo>
                    <a:pt x="2646" y="216"/>
                  </a:lnTo>
                  <a:lnTo>
                    <a:pt x="2646" y="3294"/>
                  </a:lnTo>
                  <a:lnTo>
                    <a:pt x="2430" y="3510"/>
                  </a:lnTo>
                  <a:lnTo>
                    <a:pt x="216" y="3510"/>
                  </a:lnTo>
                  <a:lnTo>
                    <a:pt x="0" y="3294"/>
                  </a:lnTo>
                  <a:lnTo>
                    <a:pt x="0" y="216"/>
                  </a:lnTo>
                  <a:lnTo>
                    <a:pt x="216" y="0"/>
                  </a:lnTo>
                  <a:lnTo>
                    <a:pt x="2646" y="0"/>
                  </a:lnTo>
                  <a:lnTo>
                    <a:pt x="2646" y="3510"/>
                  </a:lnTo>
                  <a:lnTo>
                    <a:pt x="0" y="351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
          <p:cNvSpPr/>
          <p:nvPr/>
        </p:nvSpPr>
        <p:spPr>
          <a:xfrm>
            <a:off x="4932360" y="2637000"/>
            <a:ext cx="4067280" cy="269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y sólo quiero decirte, viejo del alma, que eres el ser que al más respeto y admir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eso te pido con amor y vehemencia, que más que pad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as mi amig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65" name=""/>
          <p:cNvGrpSpPr/>
          <p:nvPr/>
        </p:nvGrpSpPr>
        <p:grpSpPr>
          <a:xfrm>
            <a:off x="4427640" y="692280"/>
            <a:ext cx="3959280" cy="5568840"/>
            <a:chOff x="4427640" y="692280"/>
            <a:chExt cx="3959280" cy="5568840"/>
          </a:xfrm>
        </p:grpSpPr>
        <p:sp>
          <p:nvSpPr>
            <p:cNvPr id="66" name=""/>
            <p:cNvSpPr/>
            <p:nvPr/>
          </p:nvSpPr>
          <p:spPr>
            <a:xfrm>
              <a:off x="4469040" y="733320"/>
              <a:ext cx="3876480" cy="5486040"/>
            </a:xfrm>
            <a:prstGeom prst="octagon">
              <a:avLst>
                <a:gd name="adj" fmla="val 0"/>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427640" y="692280"/>
              <a:ext cx="3959280" cy="5568840"/>
            </a:xfrm>
            <a:custGeom>
              <a:avLst/>
              <a:gdLst/>
              <a:ahLst/>
              <a:rect l="l" t="t" r="r" b="b"/>
              <a:pathLst>
                <a:path w="2494" h="3508">
                  <a:moveTo>
                    <a:pt x="2282" y="0"/>
                  </a:moveTo>
                  <a:lnTo>
                    <a:pt x="2494" y="211"/>
                  </a:lnTo>
                  <a:lnTo>
                    <a:pt x="2494" y="3296"/>
                  </a:lnTo>
                  <a:lnTo>
                    <a:pt x="2282" y="3508"/>
                  </a:lnTo>
                  <a:lnTo>
                    <a:pt x="211" y="3508"/>
                  </a:lnTo>
                  <a:lnTo>
                    <a:pt x="0" y="3296"/>
                  </a:lnTo>
                  <a:lnTo>
                    <a:pt x="0" y="211"/>
                  </a:lnTo>
                  <a:lnTo>
                    <a:pt x="211" y="0"/>
                  </a:lnTo>
                  <a:lnTo>
                    <a:pt x="2494" y="0"/>
                  </a:lnTo>
                  <a:lnTo>
                    <a:pt x="2494" y="3508"/>
                  </a:lnTo>
                  <a:lnTo>
                    <a:pt x="0" y="350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 name=""/>
          <p:cNvSpPr/>
          <p:nvPr/>
        </p:nvSpPr>
        <p:spPr>
          <a:xfrm>
            <a:off x="539640" y="3573360"/>
            <a:ext cx="381636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me cabe concebir ninguna necesidad tan importante durante la infancia de </a:t>
            </a:r>
            <a:br>
              <a:rPr sz="2000"/>
            </a:br>
            <a:r>
              <a:rPr b="0" lang="en-US" sz="2000" spc="-1" strike="noStrike">
                <a:solidFill>
                  <a:srgbClr val="ffffff"/>
                </a:solidFill>
                <a:latin typeface="Arial"/>
              </a:rPr>
              <a:t>una persona que la necesidad de sentirse protegido por un padre.</a:t>
            </a:r>
            <a:endParaRPr b="0" lang="en-US" sz="2000" spc="-1" strike="noStrike">
              <a:solidFill>
                <a:srgbClr val="000000"/>
              </a:solidFill>
              <a:latin typeface="Arial"/>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70" name=""/>
          <p:cNvGrpSpPr/>
          <p:nvPr/>
        </p:nvGrpSpPr>
        <p:grpSpPr>
          <a:xfrm>
            <a:off x="468360" y="765000"/>
            <a:ext cx="4873680" cy="5257800"/>
            <a:chOff x="468360" y="765000"/>
            <a:chExt cx="4873680" cy="5257800"/>
          </a:xfrm>
        </p:grpSpPr>
        <p:sp>
          <p:nvSpPr>
            <p:cNvPr id="71" name=""/>
            <p:cNvSpPr/>
            <p:nvPr/>
          </p:nvSpPr>
          <p:spPr>
            <a:xfrm>
              <a:off x="511200" y="808200"/>
              <a:ext cx="4787280" cy="5170680"/>
            </a:xfrm>
            <a:prstGeom prst="octagon">
              <a:avLst>
                <a:gd name="adj" fmla="val 0"/>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68360" y="765000"/>
              <a:ext cx="4873680" cy="5257800"/>
            </a:xfrm>
            <a:custGeom>
              <a:avLst/>
              <a:gdLst/>
              <a:ahLst/>
              <a:rect l="l" t="t" r="r" b="b"/>
              <a:pathLst>
                <a:path w="3258" h="3514">
                  <a:moveTo>
                    <a:pt x="3022" y="0"/>
                  </a:moveTo>
                  <a:lnTo>
                    <a:pt x="3258" y="235"/>
                  </a:lnTo>
                  <a:lnTo>
                    <a:pt x="3258" y="3278"/>
                  </a:lnTo>
                  <a:lnTo>
                    <a:pt x="3022" y="3514"/>
                  </a:lnTo>
                  <a:lnTo>
                    <a:pt x="235" y="3514"/>
                  </a:lnTo>
                  <a:lnTo>
                    <a:pt x="0" y="3278"/>
                  </a:lnTo>
                  <a:lnTo>
                    <a:pt x="0" y="235"/>
                  </a:lnTo>
                  <a:lnTo>
                    <a:pt x="235" y="0"/>
                  </a:lnTo>
                  <a:lnTo>
                    <a:pt x="3258" y="0"/>
                  </a:lnTo>
                  <a:lnTo>
                    <a:pt x="3258" y="3514"/>
                  </a:lnTo>
                  <a:lnTo>
                    <a:pt x="0" y="351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
          <p:cNvSpPr/>
          <p:nvPr/>
        </p:nvSpPr>
        <p:spPr>
          <a:xfrm>
            <a:off x="5219640" y="1484280"/>
            <a:ext cx="352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5364000" y="2301840"/>
            <a:ext cx="3168720" cy="3264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uando yo tenía catorce años, mi padre era tan ignorante que no podía soportarle. Pero cuando cumplí los veintiuno, me parecía increíble lo mucho que mi padre había aprendido en siete añ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Mark Twa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76" name=""/>
          <p:cNvGrpSpPr/>
          <p:nvPr/>
        </p:nvGrpSpPr>
        <p:grpSpPr>
          <a:xfrm>
            <a:off x="1763640" y="404640"/>
            <a:ext cx="5113440" cy="5113440"/>
            <a:chOff x="1763640" y="404640"/>
            <a:chExt cx="5113440" cy="5113440"/>
          </a:xfrm>
        </p:grpSpPr>
        <p:sp>
          <p:nvSpPr>
            <p:cNvPr id="77" name=""/>
            <p:cNvSpPr/>
            <p:nvPr/>
          </p:nvSpPr>
          <p:spPr>
            <a:xfrm>
              <a:off x="1806840" y="447840"/>
              <a:ext cx="5026320" cy="5026320"/>
            </a:xfrm>
            <a:prstGeom prst="octagon">
              <a:avLst>
                <a:gd name="adj" fmla="val 0"/>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763640" y="404640"/>
              <a:ext cx="5113440" cy="5113440"/>
            </a:xfrm>
            <a:custGeom>
              <a:avLst/>
              <a:gdLst/>
              <a:ahLst/>
              <a:rect l="l" t="t" r="r" b="b"/>
              <a:pathLst>
                <a:path w="3516" h="3516">
                  <a:moveTo>
                    <a:pt x="3271" y="0"/>
                  </a:moveTo>
                  <a:lnTo>
                    <a:pt x="3516" y="244"/>
                  </a:lnTo>
                  <a:lnTo>
                    <a:pt x="3516" y="3271"/>
                  </a:lnTo>
                  <a:lnTo>
                    <a:pt x="3271" y="3516"/>
                  </a:lnTo>
                  <a:lnTo>
                    <a:pt x="244" y="3516"/>
                  </a:lnTo>
                  <a:lnTo>
                    <a:pt x="0" y="3271"/>
                  </a:lnTo>
                  <a:lnTo>
                    <a:pt x="0" y="244"/>
                  </a:lnTo>
                  <a:lnTo>
                    <a:pt x="244" y="0"/>
                  </a:lnTo>
                  <a:lnTo>
                    <a:pt x="3516" y="0"/>
                  </a:lnTo>
                  <a:lnTo>
                    <a:pt x="3516" y="3516"/>
                  </a:lnTo>
                  <a:lnTo>
                    <a:pt x="0" y="351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 name=""/>
          <p:cNvSpPr/>
          <p:nvPr/>
        </p:nvSpPr>
        <p:spPr>
          <a:xfrm>
            <a:off x="1258920" y="5516640"/>
            <a:ext cx="604836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 papá es un hijo que parece duro y espinoso por fuera pero es puro, dulce y tierno en su interior.</a:t>
            </a:r>
            <a:br>
              <a:rPr sz="2000"/>
            </a:b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81" name=""/>
          <p:cNvGrpSpPr/>
          <p:nvPr/>
        </p:nvGrpSpPr>
        <p:grpSpPr>
          <a:xfrm>
            <a:off x="826920" y="549360"/>
            <a:ext cx="7455240" cy="4944960"/>
            <a:chOff x="826920" y="549360"/>
            <a:chExt cx="7455240" cy="4944960"/>
          </a:xfrm>
        </p:grpSpPr>
        <p:sp>
          <p:nvSpPr>
            <p:cNvPr id="82" name=""/>
            <p:cNvSpPr/>
            <p:nvPr/>
          </p:nvSpPr>
          <p:spPr>
            <a:xfrm>
              <a:off x="880920" y="603360"/>
              <a:ext cx="7346880" cy="4836600"/>
            </a:xfrm>
            <a:prstGeom prst="octagon">
              <a:avLst>
                <a:gd name="adj" fmla="val 0"/>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826920" y="549360"/>
              <a:ext cx="7455240" cy="4944960"/>
            </a:xfrm>
            <a:custGeom>
              <a:avLst/>
              <a:gdLst/>
              <a:ahLst/>
              <a:rect l="l" t="t" r="r" b="b"/>
              <a:pathLst>
                <a:path w="4968" h="3295">
                  <a:moveTo>
                    <a:pt x="4674" y="0"/>
                  </a:moveTo>
                  <a:lnTo>
                    <a:pt x="4968" y="293"/>
                  </a:lnTo>
                  <a:lnTo>
                    <a:pt x="4968" y="3001"/>
                  </a:lnTo>
                  <a:lnTo>
                    <a:pt x="4674" y="3295"/>
                  </a:lnTo>
                  <a:lnTo>
                    <a:pt x="293" y="3295"/>
                  </a:lnTo>
                  <a:lnTo>
                    <a:pt x="0" y="3001"/>
                  </a:lnTo>
                  <a:lnTo>
                    <a:pt x="0" y="293"/>
                  </a:lnTo>
                  <a:lnTo>
                    <a:pt x="293" y="0"/>
                  </a:lnTo>
                  <a:lnTo>
                    <a:pt x="4968" y="0"/>
                  </a:lnTo>
                  <a:lnTo>
                    <a:pt x="4968" y="3295"/>
                  </a:lnTo>
                  <a:lnTo>
                    <a:pt x="0" y="329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
          <p:cNvSpPr/>
          <p:nvPr/>
        </p:nvSpPr>
        <p:spPr>
          <a:xfrm>
            <a:off x="611280" y="5661000"/>
            <a:ext cx="806436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un hombre se da cuenta de que su padre tal vez tenía razón, </a:t>
            </a:r>
            <a:br>
              <a:rPr sz="2000"/>
            </a:br>
            <a:r>
              <a:rPr b="0" lang="en-US" sz="2000" spc="-1" strike="noStrike">
                <a:solidFill>
                  <a:srgbClr val="ffffff"/>
                </a:solidFill>
                <a:latin typeface="Arial"/>
              </a:rPr>
              <a:t>normalmente tiene un hijo que cree que está equivocado.</a:t>
            </a:r>
            <a:br>
              <a:rPr sz="2000"/>
            </a:b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2T19:36:19Z</dcterms:created>
  <dc:creator>maria</dc:creator>
  <dc:description/>
  <dc:language>en-US</dc:language>
  <cp:lastModifiedBy>maria</cp:lastModifiedBy>
  <dcterms:modified xsi:type="dcterms:W3CDTF">2009-05-12T20:49:43Z</dcterms:modified>
  <cp:revision>3</cp:revision>
  <dc:subject/>
  <dc:title>Álbum de fotografías</dc:title>
</cp:coreProperties>
</file>