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30F-FA9A-4D94-9F31-0ED38E29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4C7-DA09-4836-B208-4BFF72A3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A1C-DAC7-4700-8E1C-C05DBD05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C24-4E76-49F4-BF6D-2EB75B54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623-25D8-40AA-A4DB-9D9A54732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B396-3B22-49B7-A96A-FE4BB2AB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550-EC3D-4B68-9D05-0AFABAF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4B7-7534-4663-9EA0-4711E9716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7438-C5C3-4499-A1DC-6FBA668E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E9BA-F769-4EA4-AE83-43A77D9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CD21-C13D-4155-A728-40AA7207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BD2-7724-432E-A681-423AC3FE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876E-530E-4788-B83F-3B3E7BB58E3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830680" y="544680"/>
            <a:ext cx="5852880" cy="831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day Cash Loans On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4"/>
          <p:cNvSpPr/>
          <p:nvPr/>
        </p:nvSpPr>
        <p:spPr>
          <a:xfrm>
            <a:off x="611280" y="3284640"/>
            <a:ext cx="129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fafl.jpg"/>
          <p:cNvPicPr/>
          <p:nvPr/>
        </p:nvPicPr>
        <p:blipFill>
          <a:blip r:embed="rId2"/>
          <a:stretch/>
        </p:blipFill>
        <p:spPr>
          <a:xfrm>
            <a:off x="115920" y="2505240"/>
            <a:ext cx="2266920" cy="215892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8143920" y="6488280"/>
            <a:ext cx="1000080" cy="3697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TextBox 8" descr=""/>
          <p:cNvPicPr/>
          <p:nvPr/>
        </p:nvPicPr>
        <p:blipFill>
          <a:blip r:embed="rId3"/>
          <a:stretch/>
        </p:blipFill>
        <p:spPr>
          <a:xfrm>
            <a:off x="2687760" y="4340160"/>
            <a:ext cx="6333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87320" y="758160"/>
            <a:ext cx="6412320" cy="821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day Cash Loans On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Loan4.jpg"/>
          <p:cNvPicPr/>
          <p:nvPr/>
        </p:nvPicPr>
        <p:blipFill>
          <a:blip r:embed="rId1"/>
          <a:stretch/>
        </p:blipFill>
        <p:spPr>
          <a:xfrm>
            <a:off x="1047600" y="1852560"/>
            <a:ext cx="7834320" cy="7888320"/>
          </a:xfrm>
          <a:prstGeom prst="rect">
            <a:avLst/>
          </a:prstGeom>
          <a:ln w="0">
            <a:noFill/>
          </a:ln>
        </p:spPr>
      </p:pic>
      <p:sp>
        <p:nvSpPr>
          <p:cNvPr id="48" name="TextBox 7"/>
          <p:cNvSpPr/>
          <p:nvPr/>
        </p:nvSpPr>
        <p:spPr>
          <a:xfrm>
            <a:off x="0" y="6488280"/>
            <a:ext cx="928800" cy="36972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687320" y="758160"/>
            <a:ext cx="6412320" cy="821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y we apply her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0" y="6488280"/>
            <a:ext cx="928800" cy="36972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428840" y="1928880"/>
            <a:ext cx="72151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Minut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*7 service day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val take few minutes on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Turn Downs, guaranteed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guarantor required during loans application fill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application form is absolutely free and 100% no obl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687320" y="758160"/>
            <a:ext cx="6412320" cy="821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rm and condition for apply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0" y="6488280"/>
            <a:ext cx="928800" cy="36972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428840" y="1928880"/>
            <a:ext cx="721512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r age should above 18 years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are confirm that you are a UK citiz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can borrow an amount ranging from £100 to £1,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ou hold a valid bank account that accepts direct depos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73760" y="773280"/>
            <a:ext cx="4453920" cy="10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pply N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0" y="6488280"/>
            <a:ext cx="928800" cy="369720"/>
          </a:xfrm>
          <a:prstGeom prst="rect">
            <a:avLst/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ounded Rectangle 6" descr=""/>
          <p:cNvPicPr/>
          <p:nvPr/>
        </p:nvPicPr>
        <p:blipFill>
          <a:blip r:embed="rId1"/>
          <a:stretch/>
        </p:blipFill>
        <p:spPr>
          <a:xfrm>
            <a:off x="1133640" y="5010120"/>
            <a:ext cx="7943760" cy="106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0"/>
          <p:cNvSpPr/>
          <p:nvPr/>
        </p:nvSpPr>
        <p:spPr>
          <a:xfrm>
            <a:off x="1785960" y="3357720"/>
            <a:ext cx="60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yda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OGO</cp:lastModifiedBy>
  <dcterms:modified xsi:type="dcterms:W3CDTF">2014-01-22T10:23:55Z</dcterms:modified>
  <cp:revision>704</cp:revision>
  <dc:subject/>
  <dc:title>Diapositiva 1</dc:title>
</cp:coreProperties>
</file>