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B70-EF8A-4079-B6E3-8978BD77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972-BECB-41E6-9943-00DD69DD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135-8167-4D9E-BC74-3EDBA801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1FF-9FAC-488E-8828-56F1ED63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852-D5B8-4FA1-8777-2AF0AAE6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7A2-DEEC-4AD7-AC3B-A8EDDC79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72E-6690-44BB-A895-1ACD820E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7F9-5D4F-4107-950F-0E3DD545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2F9-E5C3-4DBE-A22D-7F51576C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7D5-B097-4BBE-8288-759657F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562F-7100-4785-B30A-46323117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104-E78E-41A7-B2A3-4FB5D45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7612-3492-4B1C-8BEE-E6760CFD69B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image" Target="../media/image7.jpeg"/><Relationship Id="rId8" Type="http://schemas.openxmlformats.org/officeDocument/2006/relationships/slide" Target="slide9.xml"/><Relationship Id="rId9" Type="http://schemas.openxmlformats.org/officeDocument/2006/relationships/image" Target="../media/image8.jpeg"/><Relationship Id="rId10" Type="http://schemas.openxmlformats.org/officeDocument/2006/relationships/hyperlink" Target="file:///..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2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5181480" y="1413000"/>
            <a:ext cx="392760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اشيين وي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5181480" y="2433600"/>
            <a:ext cx="392760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ايشين لامس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5181480" y="3441600"/>
            <a:ext cx="392760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ايفينك و أ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8" action="ppaction://hlinksldjump"/>
          </p:cNvPr>
          <p:cNvSpPr/>
          <p:nvPr/>
        </p:nvSpPr>
        <p:spPr>
          <a:xfrm>
            <a:off x="108000" y="1281240"/>
            <a:ext cx="438768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ارض دي ملكك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2">
            <a:hlinkClick r:id="rId10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2" action="ppaction://hlinksldjump"/>
          </p:cNvPr>
          <p:cNvSpPr/>
          <p:nvPr/>
        </p:nvSpPr>
        <p:spPr>
          <a:xfrm>
            <a:off x="5181480" y="417600"/>
            <a:ext cx="392760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ل شعوب الا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760" y="1219320"/>
            <a:ext cx="848196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كل شعوب الأرض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cs typeface="Times New Roman"/>
              </a:rPr>
              <a:t>ب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هت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489040"/>
            <a:ext cx="796140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علن مُلك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676680"/>
            <a:ext cx="7889760" cy="2531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سبح لك و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تغني ل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9440" y="4861080"/>
            <a:ext cx="6651720" cy="2531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وتفيض بالخش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222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7160" y="1295280"/>
            <a:ext cx="876744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ماشيين وياك رافعين رايا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401920"/>
            <a:ext cx="8212320" cy="11912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وعود غالية ثمين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89480"/>
            <a:ext cx="787104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بالدم الغالي نشوف آيا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560" y="4724280"/>
            <a:ext cx="8156880" cy="1312920"/>
          </a:xfrm>
          <a:prstGeom prst="rect">
            <a:avLst/>
          </a:prstGeom>
          <a:noFill/>
          <a:ln w="0">
            <a:noFill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دا صليبك يحم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112716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عايشين لامسين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cs typeface="Times New Roman"/>
              </a:rPr>
              <a:t>و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بكل يق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3280" y="2467080"/>
            <a:ext cx="8910720" cy="131292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إعلان مُلكك ل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703680"/>
            <a:ext cx="9144000" cy="24714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800" spc="-1" strike="noStrike">
                <a:solidFill>
                  <a:srgbClr val="f2fd1d"/>
                </a:solidFill>
                <a:latin typeface="Times New Roman"/>
              </a:rPr>
              <a:t>بيصير بإيدينا و</a:t>
            </a:r>
            <a:r>
              <a:rPr b="1" lang="ar-EG" sz="78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800" spc="-1" strike="noStrike">
                <a:solidFill>
                  <a:srgbClr val="f2fd1d"/>
                </a:solidFill>
                <a:latin typeface="Times New Roman"/>
              </a:rPr>
              <a:t>بيك يا معين </a:t>
            </a:r>
            <a:endParaRPr b="0" lang="en-US" sz="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0280" y="5089680"/>
            <a:ext cx="8258040" cy="1312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مجد من حوال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665" t="3329" r="1665" b="2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شايفينك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نت بتمشي يا ر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529000"/>
            <a:ext cx="580896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سلطانك وسط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cs typeface="Times New Roman"/>
              </a:rPr>
              <a:t>ي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880" y="3733920"/>
            <a:ext cx="813924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بنعلن ملكك ملك الح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30200" y="4967280"/>
            <a:ext cx="6651720" cy="253188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8000" spc="-1" strike="noStrike">
                <a:solidFill>
                  <a:srgbClr val="f2fd1d"/>
                </a:solidFill>
                <a:latin typeface="Times New Roman"/>
              </a:rPr>
              <a:t>يا منور أراضي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4640" y="1752480"/>
            <a:ext cx="8587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أرض دي ملكك يا ابن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3960" y="2925720"/>
            <a:ext cx="616896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مالك ف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3962520"/>
            <a:ext cx="6850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رب و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إنت الل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01600" y="5038560"/>
            <a:ext cx="6796080" cy="228852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العالي </a:t>
            </a:r>
            <a:r>
              <a:rPr b="1" lang="ar-SA" sz="7200" spc="-1" strike="noStrike">
                <a:solidFill>
                  <a:srgbClr val="f2fd1d"/>
                </a:solidFill>
                <a:latin typeface="Times New Roman"/>
              </a:rPr>
              <a:t>في</a:t>
            </a:r>
            <a:r>
              <a:rPr b="1" lang="ar-EG" sz="7200" spc="-1" strike="noStrike">
                <a:solidFill>
                  <a:srgbClr val="f2fd1d"/>
                </a:solidFill>
                <a:latin typeface="Times New Roman"/>
              </a:rPr>
              <a:t> وسطي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12:47:20Z</dcterms:created>
  <dc:creator/>
  <dc:description/>
  <dc:language>en-US</dc:language>
  <cp:lastModifiedBy>Sp2</cp:lastModifiedBy>
  <dcterms:modified xsi:type="dcterms:W3CDTF">2008-12-23T23:36:36Z</dcterms:modified>
  <cp:revision>44</cp:revision>
  <dc:subject/>
  <dc:title>عرض تقديمي من PowerPoint</dc:title>
</cp:coreProperties>
</file>