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D5F-0025-4377-A939-1AF69A73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FB1-1122-4814-A7CC-526E0D31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14D-8778-40FB-AE42-38014954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41A-16E4-448C-8B42-5821C475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F8F-D004-4A5E-8721-EEB85325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AF2-C5EF-4414-A0DF-0F4B495E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BD6-5C02-4405-944D-068F1BB3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F18-13C6-4CD7-A972-F7058C82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245-6A7C-481F-9366-36471F60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5DB-9C4A-4CCB-8101-D8B08DC5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1E7-8602-4C54-9BDA-DFCE3CB2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EFF-4A0A-4BB5-A0BD-BC811589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E7D4-6081-437E-884D-112BD7ABE2E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" Target="slide6.xml"/><Relationship Id="rId5" Type="http://schemas.openxmlformats.org/officeDocument/2006/relationships/image" Target="../media/image7.jpeg"/><Relationship Id="rId6" Type="http://schemas.openxmlformats.org/officeDocument/2006/relationships/slide" Target="slide8.xml"/><Relationship Id="rId7" Type="http://schemas.openxmlformats.org/officeDocument/2006/relationships/image" Target="../media/image7.jpeg"/><Relationship Id="rId8" Type="http://schemas.openxmlformats.org/officeDocument/2006/relationships/slide" Target="slide9.xml"/><Relationship Id="rId9" Type="http://schemas.openxmlformats.org/officeDocument/2006/relationships/image" Target="../media/image8.jpeg"/><Relationship Id="rId10" Type="http://schemas.openxmlformats.org/officeDocument/2006/relationships/hyperlink" Target="file:///../../&#1601;&#1607;&#1585;&#1587;%20&#1575;&#1604;&#1578;&#1585;&#1575;&#1606;&#1610;&#1605;.pps" TargetMode="External"/><Relationship Id="rId11" Type="http://schemas.openxmlformats.org/officeDocument/2006/relationships/image" Target="../media/image8.jpeg"/><Relationship Id="rId12" Type="http://schemas.openxmlformats.org/officeDocument/2006/relationships/slide" Target="slide2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4640" y="1752480"/>
            <a:ext cx="8587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أرض دي ملكك يا ابن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3960" y="2925720"/>
            <a:ext cx="616896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مالك ف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4880" y="3962520"/>
            <a:ext cx="6850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رب وإنت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1600" y="5038560"/>
            <a:ext cx="6796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عالي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</a:rPr>
              <a:t>في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 وسط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5181480" y="1413000"/>
            <a:ext cx="392760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اشيين وي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5181480" y="2433600"/>
            <a:ext cx="392760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ايشين لامسي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5181480" y="3441600"/>
            <a:ext cx="392760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ايفينك و أ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8" action="ppaction://hlinksldjump"/>
          </p:cNvPr>
          <p:cNvSpPr/>
          <p:nvPr/>
        </p:nvSpPr>
        <p:spPr>
          <a:xfrm>
            <a:off x="108000" y="1281240"/>
            <a:ext cx="438768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القرار : 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ارض دي ملكك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2">
            <a:hlinkClick r:id="rId10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2" action="ppaction://hlinksldjump"/>
          </p:cNvPr>
          <p:cNvSpPr/>
          <p:nvPr/>
        </p:nvSpPr>
        <p:spPr>
          <a:xfrm>
            <a:off x="5181480" y="417600"/>
            <a:ext cx="3927600" cy="707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ل شعوب الا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760" y="1219320"/>
            <a:ext cx="848196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كل شعوب الأرض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cs typeface="Times New Roman"/>
              </a:rPr>
              <a:t>ب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تهت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489040"/>
            <a:ext cx="796140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تعلن مُلك يس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676680"/>
            <a:ext cx="7889760" cy="25318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و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تسبح لك و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تغني ل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79440" y="4861080"/>
            <a:ext cx="6651720" cy="25318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وتفيض بالخش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4640" y="1752480"/>
            <a:ext cx="8587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أرض دي ملكك يا ابن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3960" y="2925720"/>
            <a:ext cx="616896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مالك ف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74880" y="3962520"/>
            <a:ext cx="6850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رب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01600" y="5038560"/>
            <a:ext cx="6796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عالي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</a:rPr>
              <a:t>في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 وسط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222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7160" y="1295280"/>
            <a:ext cx="876744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ماشيين وياك رافعين رايا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2401920"/>
            <a:ext cx="8212320" cy="11912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وعود غالية ثمين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89480"/>
            <a:ext cx="7871040" cy="253188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بالدم الغالي نشوف آيا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560" y="4724280"/>
            <a:ext cx="8156880" cy="1312920"/>
          </a:xfrm>
          <a:prstGeom prst="rect">
            <a:avLst/>
          </a:prstGeom>
          <a:noFill/>
          <a:ln w="0">
            <a:noFill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دا صليبك يحمي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4640" y="1752480"/>
            <a:ext cx="8587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أرض دي ملكك يا ابن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23960" y="2925720"/>
            <a:ext cx="616896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مالك ف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4880" y="3962520"/>
            <a:ext cx="6850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رب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01600" y="5038560"/>
            <a:ext cx="6796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عالي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</a:rPr>
              <a:t>في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 وسط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320" y="112716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عايشين لامسين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cs typeface="Times New Roman"/>
              </a:rPr>
              <a:t>و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بكل يق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3280" y="2467080"/>
            <a:ext cx="8910720" cy="131292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إعلان مُلكك لي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703680"/>
            <a:ext cx="9144000" cy="24714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800" spc="-1" strike="noStrike">
                <a:solidFill>
                  <a:srgbClr val="f2fd1d"/>
                </a:solidFill>
                <a:latin typeface="Times New Roman"/>
              </a:rPr>
              <a:t>بيصير بإيدينا و</a:t>
            </a:r>
            <a:r>
              <a:rPr b="1" lang="ar-EG" sz="78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800" spc="-1" strike="noStrike">
                <a:solidFill>
                  <a:srgbClr val="f2fd1d"/>
                </a:solidFill>
                <a:latin typeface="Times New Roman"/>
              </a:rPr>
              <a:t>بيك يا معين </a:t>
            </a:r>
            <a:endParaRPr b="0" lang="en-US" sz="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0280" y="5089680"/>
            <a:ext cx="8258040" cy="1312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مجد من حوالي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4640" y="1752480"/>
            <a:ext cx="8587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أرض دي ملكك يا ابن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23960" y="2925720"/>
            <a:ext cx="616896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مالك ف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74880" y="3962520"/>
            <a:ext cx="6850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رب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01600" y="5038560"/>
            <a:ext cx="6796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عالي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</a:rPr>
              <a:t>في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 وسط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1665" t="3329" r="1665" b="2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شايفينك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نت بتمشي يا ر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529000"/>
            <a:ext cx="5808960" cy="253188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سلطانك وسط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cs typeface="Times New Roman"/>
              </a:rPr>
              <a:t>ي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3880" y="3733920"/>
            <a:ext cx="8139240" cy="253188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و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بنعلن ملكك ملك الح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30200" y="4967280"/>
            <a:ext cx="6651720" cy="253188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يا منور أراضي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04640" y="1752480"/>
            <a:ext cx="8587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أرض دي ملكك يا ابن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3960" y="2925720"/>
            <a:ext cx="616896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مالك ف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3962520"/>
            <a:ext cx="6850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رب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01600" y="5038560"/>
            <a:ext cx="6796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عالي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</a:rPr>
              <a:t>في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 وسط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12:47:20Z</dcterms:created>
  <dc:creator/>
  <dc:description/>
  <dc:language>en-US</dc:language>
  <cp:lastModifiedBy>Sp2</cp:lastModifiedBy>
  <dcterms:modified xsi:type="dcterms:W3CDTF">2008-12-23T23:36:36Z</dcterms:modified>
  <cp:revision>44</cp:revision>
  <dc:subject/>
  <dc:title>عرض تقديمي من PowerPoint</dc:title>
</cp:coreProperties>
</file>