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27C0-DE89-46A0-AE97-CC37BDBD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AFE0-2394-47D0-BBAB-0A311E2C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4589-8F00-4D17-8D55-178049AB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06F9-D205-4E8B-B54E-A736DFD5B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AFEB9-B7EE-4CB0-AA49-B3558129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E0C12-2B57-4EFA-875D-837B3A11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1F128-0771-4C26-A43E-12B04E8D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99F53-3E7D-4443-997A-EC75CC1F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70751-286F-4291-A836-7B12440E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28506-F13F-4561-B3F4-93927686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9C813-F336-4548-AFF9-8A53C93C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8696-6154-4A84-996B-53E65523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2C1EF-4AE1-45A4-93FB-B57A87CA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0C4A1-36E1-4788-A2F2-AC09AC5F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8983D-C1EA-41E2-BE43-F8899638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1FF97-E221-4C7B-A800-F0921DCE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425B8-DD9E-40EC-AC71-F80A6F34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44F1-B026-41C2-B033-F528770D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E40A-A42D-4603-B099-A51275EC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A7E1-0B34-436E-B7C9-846AEFBA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0D63-3029-4F68-85D0-8EF3512A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D6A0-2376-4F51-8C84-E998D6F0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B74C-D246-4422-B2A0-4ADAE84F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EA01-5B44-4618-9F04-B87344D2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EF71-B968-413B-BBED-8B89088E731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F4BC-078B-4DC2-8ECE-395298228C7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rofymedic.com/order_eye_care_en-us.html" TargetMode="External"/><Relationship Id="rId3" Type="http://schemas.openxmlformats.org/officeDocument/2006/relationships/hyperlink" Target="http://profymedic.com/buy_betagan_en-us.html" TargetMode="External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663300"/>
                </a:solidFill>
                <a:uFillTx/>
                <a:latin typeface="Tahoma"/>
                <a:hlinkClick r:id="rId2"/>
              </a:rPr>
              <a:t>Eye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3280" y="2362320"/>
            <a:ext cx="56880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3300"/>
                </a:solidFill>
                <a:uFillTx/>
                <a:latin typeface="Tahoma"/>
                <a:hlinkClick r:id="rId3"/>
              </a:rPr>
              <a:t>Beta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Cilox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Cyclogy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Lotem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Ocufl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Optiv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Pila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Timop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2:42:54Z</dcterms:created>
  <dc:creator>Pentium_4</dc:creator>
  <dc:description/>
  <dc:language>en-US</dc:language>
  <cp:lastModifiedBy>Pentium_4</cp:lastModifiedBy>
  <dcterms:modified xsi:type="dcterms:W3CDTF">2011-10-03T12:43:55Z</dcterms:modified>
  <cp:revision>1</cp:revision>
  <dc:subject/>
  <dc:title>Slide 1</dc:title>
</cp:coreProperties>
</file>