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0C8-D0F8-4652-B89C-BF310DA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6E0-1E05-4464-B632-3F63D82F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165-3B47-4BFD-B72A-F78B2A0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6C9-918B-4AC7-8393-CFF2B33B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19611-2F65-44C8-81EA-B846927B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5B25D-DA77-4914-85EA-E6B28CC2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D3B27-C2C3-4524-8397-E17FF54E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544DF-EC69-4313-84CA-983ECE2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E29A5-CD93-4AC7-ACA5-BD7EF662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596E8-D326-4497-976D-FFCA8C71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F9124-EADD-414B-B9E4-98A3494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204-E668-46D3-B907-912C4A1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E3FD-8EF3-46DB-99B6-E0CC80A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11983-0E15-4377-94E0-1325F4A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B41CD-6B5B-4E91-92D9-9A74B058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4FE66-A24B-4AB4-B05B-BA77F9D5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33BB8-306E-4DD1-9F83-31624770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80A-B27F-496B-B9EC-60F84350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127-A23C-4E1D-A046-034A98B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716-9E7A-4BF2-BA0B-3AE77C4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CEB-69EF-4B06-A622-D3149049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4C2-87FE-458A-8073-2664B41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C4D-5C42-4EEA-80E4-1554179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996-12FF-4322-9D04-C20E776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5B9C-C1B8-4040-BBB4-596B703291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18D-ECFF-47E5-A9F1-5D5D4457A8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fymedic.com/order_eye_care_en-us.html" TargetMode="External"/><Relationship Id="rId3" Type="http://schemas.openxmlformats.org/officeDocument/2006/relationships/hyperlink" Target="http://profymedic.com/buy_betagan_en-us.html" TargetMode="External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3300"/>
                </a:solidFill>
                <a:uFillTx/>
                <a:latin typeface="Tahoma"/>
                <a:hlinkClick r:id="rId2"/>
              </a:rPr>
              <a:t>Ey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2362320"/>
            <a:ext cx="5688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ahoma"/>
                <a:hlinkClick r:id="rId3"/>
              </a:rPr>
              <a:t>Beta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ilox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yclog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Lote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cufl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ptiv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Pila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Timop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42:54Z</dcterms:created>
  <dc:creator>Pentium_4</dc:creator>
  <dc:description/>
  <dc:language>en-US</dc:language>
  <cp:lastModifiedBy>Pentium_4</cp:lastModifiedBy>
  <dcterms:modified xsi:type="dcterms:W3CDTF">2011-10-03T12:43:55Z</dcterms:modified>
  <cp:revision>1</cp:revision>
  <dc:subject/>
  <dc:title>Slide 1</dc:title>
</cp:coreProperties>
</file>