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826-15BA-497F-8048-7FAEF40A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22-B5D8-4737-9E54-93C3E57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2A3-D1E8-4FB9-B62D-674D4987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BB8-C265-49F8-BFB9-9C84ECF9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0E3-4F18-4F30-80CC-EC7638B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844-F5BE-472F-942B-8141645B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4E3-3D41-4806-93B8-82387BA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9EA-C047-4FD6-9E7E-D057BDF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DCF-00D5-4F83-90CD-3879C2A1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830-A6D2-4297-99AB-3AE138B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4E3-A947-4B6E-BB6F-597CE68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EAF-8D05-49D1-84C4-95563E8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528B-7BC6-4617-8BB2-18091943174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0:12:25Z</dcterms:created>
  <dc:creator>boualem</dc:creator>
  <dc:description/>
  <dc:language>en-US</dc:language>
  <cp:lastModifiedBy>bilel</cp:lastModifiedBy>
  <dcterms:modified xsi:type="dcterms:W3CDTF">2006-12-15T19:29:21Z</dcterms:modified>
  <cp:revision>2</cp:revision>
  <dc:subject/>
  <dc:title>Présentation PowerPoint</dc:title>
</cp:coreProperties>
</file>