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95B7-AB3D-4C04-9224-FA647275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6A1B-ED11-4572-A8AD-4E7E4F95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C200-ECE6-4EF8-9741-C0F80B0B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A735-89FB-40A1-810E-CB7594F7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7DCB-B4E5-4498-8058-CC890807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8B1-8159-432F-AA1A-619E9D9D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741-4C8A-47EA-A192-6BCA063D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D0DC-5596-49FC-8CCD-7D0216C1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67B7-9933-49DD-9529-94C87D23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E13A-CC54-4CD5-B918-CBE74D2B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66C-135C-43BA-8D96-61F5262D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3BB3-4534-43AA-BB5C-D3BB4376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A53E-EE14-447C-B5DC-E4C78F3E4FA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0:12:25Z</dcterms:created>
  <dc:creator>boualem</dc:creator>
  <dc:description/>
  <dc:language>en-US</dc:language>
  <cp:lastModifiedBy>bilel</cp:lastModifiedBy>
  <dcterms:modified xsi:type="dcterms:W3CDTF">2006-12-15T19:29:21Z</dcterms:modified>
  <cp:revision>2</cp:revision>
  <dc:subject/>
  <dc:title>Présentation PowerPoint</dc:title>
</cp:coreProperties>
</file>